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220E-05DD-4036-B883-6960BBDED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2176-E3BD-4A90-B2D1-BF9938D30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A29-2220-4724-B6BE-302F5524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BFF-7AB3-4D02-BCE3-45BAABD2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C90-5953-4169-8AEC-21084FD3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31D-3853-478D-95A3-78AC8056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D6D-C37A-4DE5-B921-92617FA5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23A-07F7-4755-9D8A-0922B779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C93-B08F-443A-9BB2-9624310C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AA9-E873-485C-B893-58A183F7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DE3-1542-4788-87EE-B68A05E1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AA1-BB53-4132-8DD8-10124C1D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9D2-4345-46C8-8480-51D2486F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FB4-2ABD-4C23-87DE-2EC8488D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F084-45CF-4B10-876F-400A4C413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ap.org/a3" TargetMode="External"/><Relationship Id="rId2" Type="http://schemas.openxmlformats.org/officeDocument/2006/relationships/hyperlink" Target="http://news.altair.com/mailman/listinfo/apple3-l" TargetMode="External"/><Relationship Id="rId3" Type="http://schemas.openxmlformats.org/officeDocument/2006/relationships/hyperlink" Target="http://applearchives.org/apple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Print Char 21"/>
              </a:rPr>
              <a:t>APPLE ///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5257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 Number 3"/>
              </a:rPr>
              <a:t>A Closer L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310176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0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Clock Chip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(AppleMatters.com This Week in Apple History Podcast: “What Time Is It? I Have No Idea – I Use An Apple III”)</a:t>
            </a:r>
            <a:br>
              <a:rPr sz="29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ubtitle 3"/>
          <p:cNvSpPr/>
          <p:nvPr/>
        </p:nvSpPr>
        <p:spPr>
          <a:xfrm>
            <a:off x="685800" y="144792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National Semiconductor clock/calendar chip began fail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Month would show as “???”, hour would often go to “30” or “40” before rolling ov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Apple removed the chip on all ///’s after February 1981, offered rebat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Later started selling a separate “upgrade kit” for $5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No explanation was ever give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61760" y="21337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Very little software was ready when the /// shipp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VisiCalc /// was the only third-party application available for several month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Apple’s own word processor, Apple Writer /// didn’t ship until Fall 198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Early versions of SOS and Business BASIC were buggy.  SOS was a memory ho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762120" y="1798560"/>
            <a:ext cx="754380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Pascal wasn’t released until late 1981.  COBOL and Fortran repeatedly missed ship dat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 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The “Developer Problem” – who wants to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   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develop for a buggy machine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SOS was considered complicated and hard to u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Users took to pronouncing it “S-O-S” rather than “sauce” as Apple had hop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Underpower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ubtit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Missing features users felt should come in a business-class personal compu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No internal hard driv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No Pascal or other high-level language in R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No high-resolution color monitor to take advantage of improved graphical specs and in-built RG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No 68000 chi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When is emulation not emul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ubtitle 4"/>
          <p:cNvSpPr/>
          <p:nvPr/>
        </p:nvSpPr>
        <p:spPr>
          <a:xfrm>
            <a:off x="685800" y="1851120"/>
            <a:ext cx="77724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An emulation mode was included to allow users access to the Apple II’s software librar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Emulation requirement seriously limited Sander’s options for development (6502 vs 68000, et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Additional circuitry was added to limit emulation capabil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9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No access to extended memory, improved graphics or 80-column mo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Apple wanted users to think of the /// as a “serious” compu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Didn’t want to cut into Apple II sa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Want to play games? Get an Apple I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SOS and Pro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ubtit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Many concepts and techniques introduced in SOS live on in ProDO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Prefixes and Pathna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75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Second block of a ProDOS boot disk contains Apple /// SOS boot load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Everything is viewed as a devi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Most expansion cards made for the II can be made to work with the //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Device driver and fi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Discontin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ubtit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Apple tried to revive the /// with the ///+ but sales remained fl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Steve Jobs had already decided that Macintosh represented the future of App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Apple /// line quietly discontinued on April 24, 198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Final estimated installed base was 75,000 (65,000 Apple ///’s plus 10,000 ///+ machine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le 1"/>
          <p:cNvSpPr/>
          <p:nvPr/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Life After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ubtit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User groups and magazin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Washington Apple Pi, Call-A.P.P.L.E., On Three continued to provide support long after Apple killed the //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On Three was the only source for the 512K memory boards and other /// add-ons and hardware post-App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Sun Remarke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Did the same thing they would do later with Lisa hardwa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As late as 1995, you could get a nicely outfitted /// for less than $5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le 1"/>
          <p:cNvSpPr/>
          <p:nvPr/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Today’s Apple //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ubtitle 4"/>
          <p:cNvSpPr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Emul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MESS and SA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Hardware Projec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Apple3 Li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CFF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Disk II on a //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Announced on May 19, 1980 at the National Computer Conference in Anaheim, California and shipped to dealers in Ju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Became available in limited quantities at retail in the fall of 1980, but it wasn't until spring 1981 that volume shipments bega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A revised 5-volt edition was introduced in the fall of 1981, intended to address numerous proble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A redesigned and greatly improved model, the Apple III+ was introduced in December 198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le 1"/>
          <p:cNvSpPr/>
          <p:nvPr/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Recommended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And Onlin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ubtitle 4"/>
          <p:cNvSpPr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Washington Apple P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Print Char 21"/>
                <a:hlinkClick r:id="rId1"/>
              </a:rPr>
              <a:t>http://www.wap.org/a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Apple /// Archive DVD and Apple /// in 10 EZ Lessons DV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75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75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Apple3.or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275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Apple3-L mailing 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Print Char 21"/>
                <a:hlinkClick r:id="rId2"/>
              </a:rPr>
              <a:t>http://news.altair.com/mailman/listinfo/apple3-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275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Call-A.P.P.L.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Print Char 21"/>
                <a:hlinkClick r:id="rId3"/>
              </a:rPr>
              <a:t>http://applearchives.org/appl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4572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275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Spe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SynerTek 6502A processor at 2 MHz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128K RAM (later 256K), supporting up to 512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Display: Color Composite, Digital XRG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16 Colors at 280 x 192, 16 Shades at 560 x 192 (same in B/W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3 text modes: 40 column, 80 column, 40 column colored text (each letter, and each background could be any of 16 color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1 Internal 140K 5.25” floppy driv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Minimal ROM co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User-definable character se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762120" y="1317600"/>
            <a:ext cx="761976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Ports: 2 Serial, 1 external floppy supporting up to 3 external Disk /// floppy driv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Sound: 6-bit audio ou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Internal Expansion: 4 slots, electrically compatible with Apple II slo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Apple II mode: emulates a 48K Apple I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$7800 (initial price), revised III: $3495, III+: $299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Worst. Apple. Ever.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(AppleMatters.com This Week in Apple History Podcast: Worst. Apple. Ever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What did Apple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”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It just wasn’t a good enough machine and it had so many flaws from the start that when we reintroduced it we should have called it the Apple IV.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	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	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	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- Woz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“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[We lost] infinite, incalculable amounts.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	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	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- Steve Job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“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"The Apple III was kind of like a baby conceived during a group orgy, and [later] everybody had this bad headache and there's this bastard child, and everyone says, 'It's not mine.'“</a:t>
            </a:r>
            <a:br>
              <a:rPr sz="1500"/>
            </a:b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	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	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	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- Randy Wigginton</a:t>
            </a: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“It would be dishonest for me to sit here and say it’s perfect.”</a:t>
            </a:r>
            <a:br>
              <a:rPr sz="1500"/>
            </a:b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	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	</a:t>
            </a: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- Mike Markkula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Case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904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Heavy cast aluminum case intended to act as a heat sin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Designed by Steve Jobs without consulting the engineering tea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Fan-free design because Jobs felt fans were “noisy and inelegant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Led to board failure brought on by overheating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Forced the engineers to redesign the board layout to fit the c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Manufactured by a company that normally made engine blocks for automobi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rint Char 21"/>
              </a:rPr>
              <a:t>Board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Due to the redesign forced by Jobs, board traces were too close together, leading to shor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Non-gold connec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Flaw in manufacturer’s flux washing process led to corros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b050"/>
                </a:solidFill>
                <a:latin typeface="Print Char 21"/>
              </a:rPr>
              <a:t>Problems with sockets led to chips loosening during transpor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00b05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Print Char 21"/>
              </a:rPr>
              <a:t>20% of all Apple ///’s shipped in 1980 arrived DO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20:20:30Z</dcterms:created>
  <dc:creator>Mike</dc:creator>
  <dc:description/>
  <dc:language>en-US</dc:language>
  <cp:lastModifiedBy>Mike</cp:lastModifiedBy>
  <dcterms:modified xsi:type="dcterms:W3CDTF">2010-08-03T16:16:35Z</dcterms:modified>
  <cp:revision>36</cp:revision>
  <dc:subject/>
  <dc:title>Apple ///</dc:title>
</cp:coreProperties>
</file>