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C863-7D7F-49C9-95B2-2ED107596763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03AB-5C5F-4A98-99EF-76766888BBD4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FCC2-A548-4CAC-95B6-3284D86CA9C3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46B9-9443-471C-9DA0-B4C4C9C6D579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6167-BB1C-40D9-BB2B-52AACECEC731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A96B-6E47-4D82-8E7C-72F9488FDCC1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0D1-2A38-432F-85E1-0DB9B20292CC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CF3C-12C2-402C-956C-A2028F5654C4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134F-D501-46C3-8879-E410907D09AC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8BC7-3C20-48F6-B3FF-311AAB90C48B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5F83-3DC1-4E79-A1AE-FD84393B24C1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8BFF-071E-4CC5-8567-7158AED2B99A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64E4-9863-4C03-80E3-26D02EC03DB9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782-E4D0-400D-B695-02C6E0F030DD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1EE0-BC5D-42E7-AC8F-04847FE3CABA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172E-A266-43B1-9402-401CC859423C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97DC-3E94-458C-8799-3A45EC0804FD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E047-E626-44B4-AD1D-EE63D3ECD91E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02C3-5738-4F34-AC9A-DD42239A0B83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0BC8-42B6-4FBF-AA40-C6BC85F3ABB6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FCE7-8A7F-42AA-AC5F-3FF9009DDF93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0F97-02EA-43A1-9E41-DA1F82989BAD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FE3-73B6-46D4-87FD-B084F399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65E-212F-4A85-9EB5-E39E2628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DF3-9005-4D7A-9A2E-F3EF794D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31C-0416-4520-913E-21512921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3D3-CCDB-466B-9E11-2A3FE848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960-1027-4614-9AAB-55D0251B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C66-3326-49D1-9F64-2233AF43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81C-6220-40C4-A05F-4A2DB25C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065-87DF-4E95-9EBE-D89F42C3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724-BFC3-464B-8278-BFD4BC70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2B7-1926-44A5-BD4B-557D334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191-BBAE-45C0-B6D4-C57A1D18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6209-D8A5-4881-AF11-7CBF247C3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" name="Picture 14" descr="C:\Documents and Settings\Michael\My Documents\KFest 2007\AppleII-logoBluea.jpg"/>
          <p:cNvPicPr/>
          <p:nvPr/>
        </p:nvPicPr>
        <p:blipFill>
          <a:blip r:embed="rId2"/>
          <a:stretch/>
        </p:blipFill>
        <p:spPr>
          <a:xfrm>
            <a:off x="7543800" y="6257880"/>
            <a:ext cx="143676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Kansasfest2008Logo-transpar" descr=""/>
          <p:cNvPicPr/>
          <p:nvPr/>
        </p:nvPicPr>
        <p:blipFill>
          <a:blip r:embed="rId3"/>
          <a:stretch/>
        </p:blipFill>
        <p:spPr>
          <a:xfrm>
            <a:off x="214200" y="6226200"/>
            <a:ext cx="156204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 II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ael Mah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14300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7636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61152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84488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8004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731520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58" name="AutoShape 12"/>
          <p:cNvCxnSpPr>
            <a:stCxn id="52" idx="0"/>
            <a:endCxn id="59" idx="2"/>
          </p:cNvCxnSpPr>
          <p:nvPr/>
        </p:nvCxnSpPr>
        <p:spPr>
          <a:xfrm flipV="1">
            <a:off x="152388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0" name="AutoShape 13"/>
          <p:cNvCxnSpPr>
            <a:stCxn id="54" idx="0"/>
            <a:endCxn id="61" idx="2"/>
          </p:cNvCxnSpPr>
          <p:nvPr/>
        </p:nvCxnSpPr>
        <p:spPr>
          <a:xfrm flipV="1">
            <a:off x="399240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2" name="AutoShape 14"/>
          <p:cNvCxnSpPr>
            <a:stCxn id="55" idx="0"/>
            <a:endCxn id="63" idx="2"/>
          </p:cNvCxnSpPr>
          <p:nvPr/>
        </p:nvCxnSpPr>
        <p:spPr>
          <a:xfrm flipV="1">
            <a:off x="5225760" y="4711320"/>
            <a:ext cx="216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4" name="AutoShape 17"/>
          <p:cNvCxnSpPr>
            <a:stCxn id="57" idx="0"/>
            <a:endCxn id="65" idx="2"/>
          </p:cNvCxnSpPr>
          <p:nvPr/>
        </p:nvCxnSpPr>
        <p:spPr>
          <a:xfrm flipV="1">
            <a:off x="769608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6" name="AutoShape 20"/>
          <p:cNvCxnSpPr>
            <a:stCxn id="56" idx="0"/>
            <a:endCxn id="67" idx="2"/>
          </p:cNvCxnSpPr>
          <p:nvPr/>
        </p:nvCxnSpPr>
        <p:spPr>
          <a:xfrm flipV="1">
            <a:off x="646092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8" name="AutoShape 21"/>
          <p:cNvCxnSpPr>
            <a:stCxn id="53" idx="0"/>
            <a:endCxn id="69" idx="2"/>
          </p:cNvCxnSpPr>
          <p:nvPr/>
        </p:nvCxnSpPr>
        <p:spPr>
          <a:xfrm flipH="1" flipV="1">
            <a:off x="2751120" y="4711320"/>
            <a:ext cx="648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sp>
        <p:nvSpPr>
          <p:cNvPr id="59" name="Text Box 26"/>
          <p:cNvSpPr/>
          <p:nvPr/>
        </p:nvSpPr>
        <p:spPr>
          <a:xfrm>
            <a:off x="14112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26370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387972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511344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634824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75834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822240" y="4703760"/>
            <a:ext cx="7543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7" descr="C:\Documents and Settings\Michael\My Documents\KFest 2007\AppleII-logoBluea.jpg"/>
          <p:cNvPicPr/>
          <p:nvPr/>
        </p:nvPicPr>
        <p:blipFill>
          <a:blip r:embed="rId1"/>
          <a:stretch/>
        </p:blipFill>
        <p:spPr>
          <a:xfrm>
            <a:off x="1179360" y="5267160"/>
            <a:ext cx="702000" cy="21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C:\Documents and Settings\Michael\My Documents\KFest 2007\AppleII-logoBluea.jpg"/>
          <p:cNvPicPr/>
          <p:nvPr/>
        </p:nvPicPr>
        <p:blipFill>
          <a:blip r:embed="rId2"/>
          <a:stretch/>
        </p:blipFill>
        <p:spPr>
          <a:xfrm>
            <a:off x="241452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9" descr="C:\Documents and Settings\Michael\My Documents\KFest 2007\AppleII-logoBluea.jpg"/>
          <p:cNvPicPr/>
          <p:nvPr/>
        </p:nvPicPr>
        <p:blipFill>
          <a:blip r:embed="rId3"/>
          <a:stretch/>
        </p:blipFill>
        <p:spPr>
          <a:xfrm>
            <a:off x="364968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0" descr="C:\Documents and Settings\Michael\My Documents\KFest 2007\AppleII-logoBluea.jpg"/>
          <p:cNvPicPr/>
          <p:nvPr/>
        </p:nvPicPr>
        <p:blipFill>
          <a:blip r:embed="rId4"/>
          <a:stretch/>
        </p:blipFill>
        <p:spPr>
          <a:xfrm>
            <a:off x="488484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1" descr="C:\Documents and Settings\Michael\My Documents\KFest 2007\AppleII-logoBluea.jpg"/>
          <p:cNvPicPr/>
          <p:nvPr/>
        </p:nvPicPr>
        <p:blipFill>
          <a:blip r:embed="rId5"/>
          <a:stretch/>
        </p:blipFill>
        <p:spPr>
          <a:xfrm>
            <a:off x="6119640" y="5267160"/>
            <a:ext cx="702000" cy="219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2" descr="C:\Documents and Settings\Michael\My Documents\KFest 2007\AppleII-logoBluea.jpg"/>
          <p:cNvPicPr/>
          <p:nvPr/>
        </p:nvPicPr>
        <p:blipFill>
          <a:blip r:embed="rId6"/>
          <a:stretch/>
        </p:blipFill>
        <p:spPr>
          <a:xfrm>
            <a:off x="7354800" y="5267160"/>
            <a:ext cx="7016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s of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ta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 Carlo sim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quer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transaction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must still check for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elbrot frac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s an Applesoft program on all serving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tandard AppleCrate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census of serving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ots any machines awaiting bo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-takes cen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s Message Server if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serving ‘Crate machine, &amp;POKEs amd &amp;CALLs the BPRUNNER program at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casts the BASIC program using “boot hac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 “check-in” of machines running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PRUN</a:t>
            </a:r>
            <a:br>
              <a:rPr sz="4400"/>
            </a:b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Broadcast Parallel Run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905120" y="602604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ads and starts all slave machines in parallel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point is completely independ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job” could be anything from a single point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3,760 point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chose 280 points, or a line, for each “job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machine queues jobs (in random or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idle slave mach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the first job in the job que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es the computation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queues the result for the master to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rallel Mandelbro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828800" y="571500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esult is an almost linear increase in the speed of execu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Mandelbrot Master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828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371600"/>
            <a:ext cx="8076960" cy="44686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180  REM  Job paramet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190 N = 192 : P = 20 : REM 192 jobs, max of 20 at a tim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00 JN = 0:RN = 0:SCH = 0 : REM Start empt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1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20  REM  Build and maintain job que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30  IF JN &lt; N AND SCH &lt; P THEN  GOSUB 2400: REM  Sched another job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40  IF RN &lt; N THEN  GOSUB 2500: REM  Get result of job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50  IF RN &lt; N GOTO 223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6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70  PRINT  CHR$ (7)"All jobs completed."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320  END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33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00  REM  Schedule new job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10 JN = JN + 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30  POKE BUF,LM%(JN - 1): REM  Line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40  &amp; PUTMSG (2, JQ, 8, BUF) : REM  Enqueue job in JQ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60 SCH = SCH + 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70  RETUR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8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00  REM  Receive and display job resul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60  &amp; GET MSG# (2, RQ, LL, BUF) : REM Get result from RQ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70  IF PEEK(1) THEN FOR I = 1 TO 100: NEXT I: RETURN : REM Delay if no resul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80 SCH = SCH - 1:RN = RN + 1 : REM One less thing to do, one more thing done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90 PY =  PEEK (BUF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0 H =  INT (PY / 8):L1 = PY - H * 8 : REM Compute start of HGR2 line P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4 L3 =  INT (H / 8):L2 = H - L3 * 8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6 LINE = 4 * 4096 + L1 * 1024 + L2 * 128 + L3 * 4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7  FOR I = 0 TO 39: POKE LINE + I, PEEK (BUF + 2 + I): NEXT I : REM Display l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10  RETURN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828800" y="594360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ou can see why it’s called embarrassing parallelism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pure communication”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lave is associated with a Message Server input 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ues are “primed” with three messages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lave mach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s the first message from the que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s” the message by 1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ts the message on a random recipient’s que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each message has been passed 50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atRac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90920" y="5791320"/>
            <a:ext cx="3886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850 messages are sent and received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atRace Progra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828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787400"/>
            <a:ext cx="7619760" cy="32810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00  REM  Message passing loop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10  &amp;  GET MSG#(2,IQ,L,BUF): REM  Receive a message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30  IF  NOT  PEEK (1) GOTO 700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40  PRINT  CHR$ (7);: REM  Delay 100 ms. &amp; flash LED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50 K = K + 1: REM  Timeout counter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60  IF K &lt; 50 GOTO 600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80  END : REM  If 15 seconds w/o message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90 :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00  REM  Increment message age and pass it on..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10 K = 0: REM  Reset timeout counter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40 S =  PEEK (BUF + 1): REM  Message "age"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0  IF S = 50 GOTO 600: REM  Max trips--it stops here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0  POKE BUF + 1,S + 1: REM  Inc age by 1 and send it on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70 D =  INT ( RND (1) * NC) + 3: REM  Random destination, 3..NC+2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00  &amp; PUTMSG#(2,Q + D,20,BUF)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20  IF  NOT  PEEK (1) GOTO 600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30  PRINT "PUTMSG err."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40  E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28800" y="5562720"/>
            <a:ext cx="5486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communication, no computa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rate.Synth: Master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tandard AppleCrate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s music file containing voice tables and music streams for each “oscillator”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s needed voices and music into each sl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s synthesizer into each slave and starts it (waiting for &amp;BPO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s all slaves in sync when requ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828800" y="548640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process could benefit substantially from parallel loading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rate.Synth: Slav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s for master’s &amp;BPOKE to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ches commands from music stream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” for T samples (11,025 samples/second)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y note N for T samples in current voic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to voice V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 and return to SERVE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5486400"/>
            <a:ext cx="3733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y oscillator can play any voice at any tim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Questions and discussion...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OK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A Typical Protocol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E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E 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Data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k/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733920" y="2209680"/>
            <a:ext cx="350496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733920" y="2666880"/>
            <a:ext cx="350496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 rot="5400000">
            <a:off x="5332680" y="350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733920" y="3489480"/>
            <a:ext cx="350496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3733920" y="3946680"/>
            <a:ext cx="350496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3733920" y="3124080"/>
            <a:ext cx="350496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H="1">
            <a:off x="3733920" y="4419720"/>
            <a:ext cx="350496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162920" y="1905120"/>
            <a:ext cx="129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y AppleCrate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early 1990s, I became interested in “clustered” machines:  parallel computers connected by a 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terest naturally turned to Apple II computers, and the possibility of creating an Apple II “blade server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ucky eBay bid in 2003 netted me 25 Apple //e main boards (14 enhanced) for $39, including shipp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28800" y="5824440"/>
            <a:ext cx="5486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cause it can be done!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ntrol Packe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6" name="Group 19"/>
          <p:cNvGrpSpPr/>
          <p:nvPr/>
        </p:nvGrpSpPr>
        <p:grpSpPr>
          <a:xfrm>
            <a:off x="1143000" y="1752480"/>
            <a:ext cx="6858000" cy="685800"/>
            <a:chOff x="1143000" y="1752480"/>
            <a:chExt cx="6858000" cy="685800"/>
          </a:xfrm>
        </p:grpSpPr>
        <p:sp>
          <p:nvSpPr>
            <p:cNvPr id="257" name="Rectangle 3"/>
            <p:cNvSpPr/>
            <p:nvPr/>
          </p:nvSpPr>
          <p:spPr>
            <a:xfrm>
              <a:off x="1143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4"/>
            <p:cNvSpPr/>
            <p:nvPr/>
          </p:nvSpPr>
          <p:spPr>
            <a:xfrm>
              <a:off x="1905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Rectangle 5"/>
            <p:cNvSpPr/>
            <p:nvPr/>
          </p:nvSpPr>
          <p:spPr>
            <a:xfrm>
              <a:off x="2667240" y="1752480"/>
              <a:ext cx="76176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429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4191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4953240" y="1752480"/>
              <a:ext cx="76176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5715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477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7239240" y="1752480"/>
              <a:ext cx="761760" cy="6858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Text Box 12"/>
            <p:cNvSpPr/>
            <p:nvPr/>
          </p:nvSpPr>
          <p:spPr>
            <a:xfrm>
              <a:off x="117504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1941480" y="1914480"/>
              <a:ext cx="685800" cy="398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Modifier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270360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Dest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346572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om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4552920" y="1960560"/>
              <a:ext cx="80172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Address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6072480" y="1960560"/>
              <a:ext cx="80136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Length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7267680" y="1960560"/>
              <a:ext cx="70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Cksum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dentifies all control packets of a given reques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EK, POKE, CAL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if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pecifies the role of the packet within the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, Request Ack, Data Ack, 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target machine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sending machine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nerally) specifies an address in the target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nerally) specifies a data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ks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n EOR checksum of all bytes in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2133720" y="6095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trol packets are ~1ms long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Data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Rectangle 33"/>
          <p:cNvSpPr/>
          <p:nvPr/>
        </p:nvSpPr>
        <p:spPr>
          <a:xfrm>
            <a:off x="6900840" y="1947960"/>
            <a:ext cx="468360" cy="58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7369200" y="1947960"/>
            <a:ext cx="468360" cy="58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1500120" y="1947960"/>
            <a:ext cx="1171800" cy="58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455760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4557600" y="2533680"/>
            <a:ext cx="93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 flipV="1">
            <a:off x="5494320" y="194760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549432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596268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5962680" y="2533680"/>
            <a:ext cx="469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 flipV="1">
            <a:off x="6432480" y="194760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643248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690084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736920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>
            <a:off x="783756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783756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>
            <a:off x="7837560" y="25336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27"/>
          <p:cNvSpPr/>
          <p:nvPr/>
        </p:nvSpPr>
        <p:spPr>
          <a:xfrm flipH="1">
            <a:off x="914400" y="2533680"/>
            <a:ext cx="1757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Line 32"/>
          <p:cNvSpPr/>
          <p:nvPr/>
        </p:nvSpPr>
        <p:spPr>
          <a:xfrm>
            <a:off x="914400" y="253368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1752480" y="206064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Locked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r Idl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547056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4687920" y="2060640"/>
            <a:ext cx="685800" cy="398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16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3321000" y="2060640"/>
            <a:ext cx="685800" cy="398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31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8" name="Group 52"/>
          <p:cNvGrpSpPr/>
          <p:nvPr/>
        </p:nvGrpSpPr>
        <p:grpSpPr>
          <a:xfrm>
            <a:off x="2057400" y="1863720"/>
            <a:ext cx="101520" cy="152280"/>
            <a:chOff x="2057400" y="1863720"/>
            <a:chExt cx="101520" cy="152280"/>
          </a:xfrm>
        </p:grpSpPr>
        <p:sp>
          <p:nvSpPr>
            <p:cNvPr id="299" name="Freeform 50"/>
            <p:cNvSpPr/>
            <p:nvPr/>
          </p:nvSpPr>
          <p:spPr>
            <a:xfrm>
              <a:off x="2057400" y="1863720"/>
              <a:ext cx="50760" cy="152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Freeform 51"/>
            <p:cNvSpPr/>
            <p:nvPr/>
          </p:nvSpPr>
          <p:spPr>
            <a:xfrm>
              <a:off x="2108160" y="1863720"/>
              <a:ext cx="50760" cy="152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01" name="Group 53"/>
          <p:cNvGrpSpPr/>
          <p:nvPr/>
        </p:nvGrpSpPr>
        <p:grpSpPr>
          <a:xfrm>
            <a:off x="2057400" y="2457360"/>
            <a:ext cx="101520" cy="152640"/>
            <a:chOff x="2057400" y="2457360"/>
            <a:chExt cx="101520" cy="152640"/>
          </a:xfrm>
        </p:grpSpPr>
        <p:sp>
          <p:nvSpPr>
            <p:cNvPr id="302" name="Freeform 54"/>
            <p:cNvSpPr/>
            <p:nvPr/>
          </p:nvSpPr>
          <p:spPr>
            <a:xfrm>
              <a:off x="2057400" y="2457360"/>
              <a:ext cx="50760" cy="152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Freeform 55"/>
            <p:cNvSpPr/>
            <p:nvPr/>
          </p:nvSpPr>
          <p:spPr>
            <a:xfrm>
              <a:off x="2108160" y="2457360"/>
              <a:ext cx="50760" cy="152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4" name="Text Box 56"/>
          <p:cNvSpPr/>
          <p:nvPr/>
        </p:nvSpPr>
        <p:spPr>
          <a:xfrm>
            <a:off x="5896080" y="206064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Text Box 57"/>
          <p:cNvSpPr/>
          <p:nvPr/>
        </p:nvSpPr>
        <p:spPr>
          <a:xfrm>
            <a:off x="640080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87852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7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Text Box 61"/>
          <p:cNvSpPr/>
          <p:nvPr/>
        </p:nvSpPr>
        <p:spPr>
          <a:xfrm>
            <a:off x="734688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6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Text Box 62"/>
          <p:cNvSpPr/>
          <p:nvPr/>
        </p:nvSpPr>
        <p:spPr>
          <a:xfrm>
            <a:off x="7848720" y="1952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Rectangle 63"/>
          <p:cNvSpPr/>
          <p:nvPr/>
        </p:nvSpPr>
        <p:spPr>
          <a:xfrm>
            <a:off x="2416320" y="3736800"/>
            <a:ext cx="468000" cy="586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Rectangle 64"/>
          <p:cNvSpPr/>
          <p:nvPr/>
        </p:nvSpPr>
        <p:spPr>
          <a:xfrm>
            <a:off x="2884320" y="3736800"/>
            <a:ext cx="468360" cy="586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66"/>
          <p:cNvSpPr/>
          <p:nvPr/>
        </p:nvSpPr>
        <p:spPr>
          <a:xfrm>
            <a:off x="194796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67"/>
          <p:cNvSpPr/>
          <p:nvPr/>
        </p:nvSpPr>
        <p:spPr>
          <a:xfrm>
            <a:off x="2416320" y="3736800"/>
            <a:ext cx="46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68"/>
          <p:cNvSpPr/>
          <p:nvPr/>
        </p:nvSpPr>
        <p:spPr>
          <a:xfrm>
            <a:off x="288432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69"/>
          <p:cNvSpPr/>
          <p:nvPr/>
        </p:nvSpPr>
        <p:spPr>
          <a:xfrm>
            <a:off x="335268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Text Box 70"/>
          <p:cNvSpPr/>
          <p:nvPr/>
        </p:nvSpPr>
        <p:spPr>
          <a:xfrm>
            <a:off x="239400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1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904760" y="432288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73"/>
          <p:cNvSpPr/>
          <p:nvPr/>
        </p:nvSpPr>
        <p:spPr>
          <a:xfrm>
            <a:off x="1905120" y="432288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74"/>
          <p:cNvSpPr/>
          <p:nvPr/>
        </p:nvSpPr>
        <p:spPr>
          <a:xfrm>
            <a:off x="1905120" y="373680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2857680" y="384984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0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Rectangle 77"/>
          <p:cNvSpPr/>
          <p:nvPr/>
        </p:nvSpPr>
        <p:spPr>
          <a:xfrm>
            <a:off x="5300640" y="3736800"/>
            <a:ext cx="468360" cy="586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Rectangle 78"/>
          <p:cNvSpPr/>
          <p:nvPr/>
        </p:nvSpPr>
        <p:spPr>
          <a:xfrm>
            <a:off x="5769000" y="3736800"/>
            <a:ext cx="468360" cy="586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79"/>
          <p:cNvSpPr/>
          <p:nvPr/>
        </p:nvSpPr>
        <p:spPr>
          <a:xfrm flipV="1">
            <a:off x="483228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80"/>
          <p:cNvSpPr/>
          <p:nvPr/>
        </p:nvSpPr>
        <p:spPr>
          <a:xfrm>
            <a:off x="483228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81"/>
          <p:cNvSpPr/>
          <p:nvPr/>
        </p:nvSpPr>
        <p:spPr>
          <a:xfrm>
            <a:off x="530064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82"/>
          <p:cNvSpPr/>
          <p:nvPr/>
        </p:nvSpPr>
        <p:spPr>
          <a:xfrm>
            <a:off x="576900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83"/>
          <p:cNvSpPr/>
          <p:nvPr/>
        </p:nvSpPr>
        <p:spPr>
          <a:xfrm>
            <a:off x="623736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84"/>
          <p:cNvSpPr/>
          <p:nvPr/>
        </p:nvSpPr>
        <p:spPr>
          <a:xfrm>
            <a:off x="623736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85"/>
          <p:cNvSpPr/>
          <p:nvPr/>
        </p:nvSpPr>
        <p:spPr>
          <a:xfrm>
            <a:off x="6237360" y="43228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Text Box 86"/>
          <p:cNvSpPr/>
          <p:nvPr/>
        </p:nvSpPr>
        <p:spPr>
          <a:xfrm>
            <a:off x="3746520" y="384984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22-23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Text Box 87"/>
          <p:cNvSpPr/>
          <p:nvPr/>
        </p:nvSpPr>
        <p:spPr>
          <a:xfrm>
            <a:off x="480060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Text Box 88"/>
          <p:cNvSpPr/>
          <p:nvPr/>
        </p:nvSpPr>
        <p:spPr>
          <a:xfrm>
            <a:off x="527832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7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Text Box 89"/>
          <p:cNvSpPr/>
          <p:nvPr/>
        </p:nvSpPr>
        <p:spPr>
          <a:xfrm>
            <a:off x="574668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6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Text Box 90"/>
          <p:cNvSpPr/>
          <p:nvPr/>
        </p:nvSpPr>
        <p:spPr>
          <a:xfrm>
            <a:off x="6248520" y="3741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Line 91"/>
          <p:cNvSpPr/>
          <p:nvPr/>
        </p:nvSpPr>
        <p:spPr>
          <a:xfrm>
            <a:off x="2658960" y="194796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92"/>
          <p:cNvSpPr/>
          <p:nvPr/>
        </p:nvSpPr>
        <p:spPr>
          <a:xfrm>
            <a:off x="3316320" y="4322880"/>
            <a:ext cx="1523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Text Box 93"/>
          <p:cNvSpPr/>
          <p:nvPr/>
        </p:nvSpPr>
        <p:spPr>
          <a:xfrm>
            <a:off x="1965240" y="3713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Rectangle 94"/>
          <p:cNvSpPr/>
          <p:nvPr/>
        </p:nvSpPr>
        <p:spPr>
          <a:xfrm>
            <a:off x="2416320" y="5208480"/>
            <a:ext cx="468000" cy="58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Rectangle 95"/>
          <p:cNvSpPr/>
          <p:nvPr/>
        </p:nvSpPr>
        <p:spPr>
          <a:xfrm>
            <a:off x="2884320" y="5208480"/>
            <a:ext cx="468360" cy="585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96"/>
          <p:cNvSpPr/>
          <p:nvPr/>
        </p:nvSpPr>
        <p:spPr>
          <a:xfrm>
            <a:off x="1947960" y="52084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97"/>
          <p:cNvSpPr/>
          <p:nvPr/>
        </p:nvSpPr>
        <p:spPr>
          <a:xfrm>
            <a:off x="2416320" y="5208480"/>
            <a:ext cx="46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98"/>
          <p:cNvSpPr/>
          <p:nvPr/>
        </p:nvSpPr>
        <p:spPr>
          <a:xfrm>
            <a:off x="2884320" y="52084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99"/>
          <p:cNvSpPr/>
          <p:nvPr/>
        </p:nvSpPr>
        <p:spPr>
          <a:xfrm>
            <a:off x="3352680" y="520848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100"/>
          <p:cNvSpPr/>
          <p:nvPr/>
        </p:nvSpPr>
        <p:spPr>
          <a:xfrm>
            <a:off x="2394000" y="532116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1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101"/>
          <p:cNvSpPr/>
          <p:nvPr/>
        </p:nvSpPr>
        <p:spPr>
          <a:xfrm flipH="1">
            <a:off x="1904760" y="579420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102"/>
          <p:cNvSpPr/>
          <p:nvPr/>
        </p:nvSpPr>
        <p:spPr>
          <a:xfrm>
            <a:off x="1905120" y="579420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103"/>
          <p:cNvSpPr/>
          <p:nvPr/>
        </p:nvSpPr>
        <p:spPr>
          <a:xfrm>
            <a:off x="1905120" y="520848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Text Box 104"/>
          <p:cNvSpPr/>
          <p:nvPr/>
        </p:nvSpPr>
        <p:spPr>
          <a:xfrm>
            <a:off x="2857680" y="532116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0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106"/>
          <p:cNvSpPr/>
          <p:nvPr/>
        </p:nvSpPr>
        <p:spPr>
          <a:xfrm>
            <a:off x="3746520" y="53211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(Idle)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108"/>
          <p:cNvSpPr/>
          <p:nvPr/>
        </p:nvSpPr>
        <p:spPr>
          <a:xfrm>
            <a:off x="1965240" y="51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Line 109"/>
          <p:cNvSpPr/>
          <p:nvPr/>
        </p:nvSpPr>
        <p:spPr>
          <a:xfrm>
            <a:off x="3352680" y="5794200"/>
            <a:ext cx="3276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Text Box 111"/>
          <p:cNvSpPr/>
          <p:nvPr/>
        </p:nvSpPr>
        <p:spPr>
          <a:xfrm>
            <a:off x="2870280" y="6080040"/>
            <a:ext cx="95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o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eckby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115"/>
          <p:cNvSpPr/>
          <p:nvPr/>
        </p:nvSpPr>
        <p:spPr>
          <a:xfrm flipV="1">
            <a:off x="3352680" y="587016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Text Box 116"/>
          <p:cNvSpPr/>
          <p:nvPr/>
        </p:nvSpPr>
        <p:spPr>
          <a:xfrm>
            <a:off x="685800" y="4788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acket end: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117"/>
          <p:cNvSpPr/>
          <p:nvPr/>
        </p:nvSpPr>
        <p:spPr>
          <a:xfrm>
            <a:off x="685800" y="332424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Interbyte separator: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118"/>
          <p:cNvSpPr/>
          <p:nvPr/>
        </p:nvSpPr>
        <p:spPr>
          <a:xfrm>
            <a:off x="685800" y="156384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Start of packet: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119"/>
          <p:cNvSpPr/>
          <p:nvPr/>
        </p:nvSpPr>
        <p:spPr>
          <a:xfrm>
            <a:off x="4475160" y="4592520"/>
            <a:ext cx="72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o ed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120"/>
          <p:cNvSpPr/>
          <p:nvPr/>
        </p:nvSpPr>
        <p:spPr>
          <a:xfrm flipV="1">
            <a:off x="4840200" y="43984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Text Box 121"/>
          <p:cNvSpPr/>
          <p:nvPr/>
        </p:nvSpPr>
        <p:spPr>
          <a:xfrm>
            <a:off x="6066000" y="2803680"/>
            <a:ext cx="72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o ed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122"/>
          <p:cNvSpPr/>
          <p:nvPr/>
        </p:nvSpPr>
        <p:spPr>
          <a:xfrm flipV="1">
            <a:off x="643248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Text Box 123"/>
          <p:cNvSpPr/>
          <p:nvPr/>
        </p:nvSpPr>
        <p:spPr>
          <a:xfrm>
            <a:off x="4965840" y="2803680"/>
            <a:ext cx="104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arse syn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124"/>
          <p:cNvSpPr/>
          <p:nvPr/>
        </p:nvSpPr>
        <p:spPr>
          <a:xfrm flipV="1">
            <a:off x="548964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Text Box 125"/>
          <p:cNvSpPr/>
          <p:nvPr/>
        </p:nvSpPr>
        <p:spPr>
          <a:xfrm>
            <a:off x="4102200" y="2803680"/>
            <a:ext cx="8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rt syn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126"/>
          <p:cNvSpPr/>
          <p:nvPr/>
        </p:nvSpPr>
        <p:spPr>
          <a:xfrm flipV="1">
            <a:off x="455148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64" name="AutoShape 127"/>
          <p:cNvCxnSpPr/>
          <p:nvPr/>
        </p:nvCxnSpPr>
        <p:spPr>
          <a:xfrm>
            <a:off x="2690640" y="1755360"/>
            <a:ext cx="419184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5" name="AutoShape 128"/>
          <p:cNvCxnSpPr/>
          <p:nvPr/>
        </p:nvCxnSpPr>
        <p:spPr>
          <a:xfrm>
            <a:off x="3352680" y="3541320"/>
            <a:ext cx="198216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6" name="Text Box 129"/>
          <p:cNvSpPr/>
          <p:nvPr/>
        </p:nvSpPr>
        <p:spPr>
          <a:xfrm>
            <a:off x="3946680" y="3325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30-31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Text Box 130"/>
          <p:cNvSpPr/>
          <p:nvPr/>
        </p:nvSpPr>
        <p:spPr>
          <a:xfrm>
            <a:off x="4343400" y="1539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71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Arbitra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listen before 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for net to be idle for 1 millisecond + ID * 22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ID machines have higher arbitration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ze net by forcing HIG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11-cycle sample-to-seize window for idle net coll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s “locked” until it is idle for longer than 1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requests satisfy this requirement and so are atom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 I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14440" y="2133720"/>
            <a:ext cx="4876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8-machine Apple //e cluster, all unenhanced mach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s modified for NadaNet boot (from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ed by PC power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 for a desktop, but quite fragile for trave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C:\Apple II Development\NadaNet\Web\Image6.jpg"/>
          <p:cNvPicPr/>
          <p:nvPr/>
        </p:nvPicPr>
        <p:blipFill>
          <a:blip r:embed="rId1"/>
          <a:stretch/>
        </p:blipFill>
        <p:spPr>
          <a:xfrm>
            <a:off x="533520" y="20574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y AppleCrate II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f the 25 main boards, 14 were Enhanced //e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512 bytes of self-test space in ROM required a new “passive” network boot protoc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a ‘Crate that was mechanically robust and compact enough to tra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to scale it up to 16 machines, and incorporate a “master” for conven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better quality sound outp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905120" y="5764320"/>
            <a:ext cx="5486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machine to suppor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llel programming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n Apple II’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 II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 Enhanced //e bo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“master” and 16 “slav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contained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can be attached to the top board, so it is the “maste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boards stacked horizontally using standoffs for rigid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power ~70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4.2 Watts per bo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-channel s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al mixer / filter / amp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ID daisy chain causes IDs      to be assigned top-to-bot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1430575cps" descr=""/>
          <p:cNvPicPr/>
          <p:nvPr/>
        </p:nvPicPr>
        <p:blipFill>
          <a:blip r:embed="rId1"/>
          <a:stretch/>
        </p:blipFill>
        <p:spPr>
          <a:xfrm>
            <a:off x="592200" y="1676520"/>
            <a:ext cx="3522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rallel Programming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undamental problem is maximizing the degree of concurrent computation to minimiz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ime to comple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chieve that it is necessary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com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ogram into part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sufficient computation so that communication cost does not dominate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ufficientl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 that communication does not dominate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not leave a few large/long sequential tasks whose computation will dominate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ipeline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is divided into “phases” or “stages”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approximately the same time to comple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erformed essentially independently on many different data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the times required by each stage independent of the data can be diffic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ipeline runs at the speed of the slowest s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blem in any stage is a problem for the whole pipe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828800" y="6026040"/>
            <a:ext cx="5638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approach can be compared to an assembly lin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86000" y="5257800"/>
            <a:ext cx="4800600" cy="228600"/>
            <a:chOff x="2286000" y="5257800"/>
            <a:chExt cx="4800600" cy="228600"/>
          </a:xfrm>
        </p:grpSpPr>
        <p:grpSp>
          <p:nvGrpSpPr>
            <p:cNvPr id="95" name=""/>
            <p:cNvGrpSpPr/>
            <p:nvPr/>
          </p:nvGrpSpPr>
          <p:grpSpPr>
            <a:xfrm>
              <a:off x="2286000" y="5257800"/>
              <a:ext cx="609480" cy="228600"/>
              <a:chOff x="2286000" y="5257800"/>
              <a:chExt cx="609480" cy="228600"/>
            </a:xfrm>
          </p:grpSpPr>
          <p:sp>
            <p:nvSpPr>
              <p:cNvPr id="96" name=""/>
              <p:cNvSpPr/>
              <p:nvPr/>
            </p:nvSpPr>
            <p:spPr>
              <a:xfrm>
                <a:off x="228600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97" name=""/>
              <p:cNvCxnSpPr>
                <a:stCxn id="96" idx="6"/>
              </p:cNvCxnSpPr>
              <p:nvPr/>
            </p:nvCxnSpPr>
            <p:spPr>
              <a:xfrm>
                <a:off x="252684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" name=""/>
            <p:cNvGrpSpPr/>
            <p:nvPr/>
          </p:nvGrpSpPr>
          <p:grpSpPr>
            <a:xfrm>
              <a:off x="2886120" y="5257800"/>
              <a:ext cx="609480" cy="228600"/>
              <a:chOff x="2886120" y="5257800"/>
              <a:chExt cx="609480" cy="228600"/>
            </a:xfrm>
          </p:grpSpPr>
          <p:sp>
            <p:nvSpPr>
              <p:cNvPr id="99" name=""/>
              <p:cNvSpPr/>
              <p:nvPr/>
            </p:nvSpPr>
            <p:spPr>
              <a:xfrm>
                <a:off x="2886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0" name=""/>
              <p:cNvCxnSpPr>
                <a:stCxn id="99" idx="6"/>
              </p:cNvCxnSpPr>
              <p:nvPr/>
            </p:nvCxnSpPr>
            <p:spPr>
              <a:xfrm>
                <a:off x="3126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1" name=""/>
            <p:cNvGrpSpPr/>
            <p:nvPr/>
          </p:nvGrpSpPr>
          <p:grpSpPr>
            <a:xfrm>
              <a:off x="4083120" y="5257800"/>
              <a:ext cx="609480" cy="228600"/>
              <a:chOff x="4083120" y="5257800"/>
              <a:chExt cx="609480" cy="228600"/>
            </a:xfrm>
          </p:grpSpPr>
          <p:sp>
            <p:nvSpPr>
              <p:cNvPr id="102" name=""/>
              <p:cNvSpPr/>
              <p:nvPr/>
            </p:nvSpPr>
            <p:spPr>
              <a:xfrm>
                <a:off x="4083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3" name=""/>
              <p:cNvCxnSpPr>
                <a:stCxn id="102" idx="6"/>
              </p:cNvCxnSpPr>
              <p:nvPr/>
            </p:nvCxnSpPr>
            <p:spPr>
              <a:xfrm>
                <a:off x="4323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4" name=""/>
            <p:cNvGrpSpPr/>
            <p:nvPr/>
          </p:nvGrpSpPr>
          <p:grpSpPr>
            <a:xfrm>
              <a:off x="5280120" y="5257800"/>
              <a:ext cx="609480" cy="228600"/>
              <a:chOff x="5280120" y="5257800"/>
              <a:chExt cx="609480" cy="22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5280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6" name=""/>
              <p:cNvCxnSpPr>
                <a:stCxn id="105" idx="6"/>
              </p:cNvCxnSpPr>
              <p:nvPr/>
            </p:nvCxnSpPr>
            <p:spPr>
              <a:xfrm>
                <a:off x="5520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7" name=""/>
            <p:cNvGrpSpPr/>
            <p:nvPr/>
          </p:nvGrpSpPr>
          <p:grpSpPr>
            <a:xfrm>
              <a:off x="6477120" y="5257800"/>
              <a:ext cx="609480" cy="228600"/>
              <a:chOff x="6477120" y="5257800"/>
              <a:chExt cx="609480" cy="228600"/>
            </a:xfrm>
          </p:grpSpPr>
          <p:sp>
            <p:nvSpPr>
              <p:cNvPr id="108" name=""/>
              <p:cNvSpPr/>
              <p:nvPr/>
            </p:nvSpPr>
            <p:spPr>
              <a:xfrm>
                <a:off x="6477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9" name=""/>
              <p:cNvCxnSpPr>
                <a:stCxn id="108" idx="6"/>
              </p:cNvCxnSpPr>
              <p:nvPr/>
            </p:nvCxnSpPr>
            <p:spPr>
              <a:xfrm>
                <a:off x="6717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10" name=""/>
            <p:cNvGrpSpPr/>
            <p:nvPr/>
          </p:nvGrpSpPr>
          <p:grpSpPr>
            <a:xfrm>
              <a:off x="3484440" y="5257800"/>
              <a:ext cx="609480" cy="228600"/>
              <a:chOff x="3484440" y="5257800"/>
              <a:chExt cx="609480" cy="228600"/>
            </a:xfrm>
          </p:grpSpPr>
          <p:sp>
            <p:nvSpPr>
              <p:cNvPr id="111" name=""/>
              <p:cNvSpPr/>
              <p:nvPr/>
            </p:nvSpPr>
            <p:spPr>
              <a:xfrm>
                <a:off x="348444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12" name=""/>
              <p:cNvCxnSpPr>
                <a:stCxn id="111" idx="6"/>
              </p:cNvCxnSpPr>
              <p:nvPr/>
            </p:nvCxnSpPr>
            <p:spPr>
              <a:xfrm>
                <a:off x="372528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13" name=""/>
            <p:cNvGrpSpPr/>
            <p:nvPr/>
          </p:nvGrpSpPr>
          <p:grpSpPr>
            <a:xfrm>
              <a:off x="4681440" y="5257800"/>
              <a:ext cx="609480" cy="228600"/>
              <a:chOff x="4681440" y="5257800"/>
              <a:chExt cx="609480" cy="228600"/>
            </a:xfrm>
          </p:grpSpPr>
          <p:sp>
            <p:nvSpPr>
              <p:cNvPr id="114" name=""/>
              <p:cNvSpPr/>
              <p:nvPr/>
            </p:nvSpPr>
            <p:spPr>
              <a:xfrm>
                <a:off x="468144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15" name=""/>
              <p:cNvCxnSpPr>
                <a:stCxn id="114" idx="6"/>
              </p:cNvCxnSpPr>
              <p:nvPr/>
            </p:nvCxnSpPr>
            <p:spPr>
              <a:xfrm>
                <a:off x="492228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16" name=""/>
            <p:cNvGrpSpPr/>
            <p:nvPr/>
          </p:nvGrpSpPr>
          <p:grpSpPr>
            <a:xfrm>
              <a:off x="5878440" y="5257800"/>
              <a:ext cx="609480" cy="228600"/>
              <a:chOff x="5878440" y="5257800"/>
              <a:chExt cx="609480" cy="228600"/>
            </a:xfrm>
          </p:grpSpPr>
          <p:sp>
            <p:nvSpPr>
              <p:cNvPr id="117" name=""/>
              <p:cNvSpPr/>
              <p:nvPr/>
            </p:nvSpPr>
            <p:spPr>
              <a:xfrm>
                <a:off x="587844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117" idx="6"/>
              </p:cNvCxnSpPr>
              <p:nvPr/>
            </p:nvCxnSpPr>
            <p:spPr>
              <a:xfrm>
                <a:off x="611928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rocess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is divided into separate processe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take any amount of time or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erformed independently on different data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particular data set may have a unique path through the network of proc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sets (“jobs”) queue for each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processing resources to minimize queueing can be very diffic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95280" y="6029280"/>
            <a:ext cx="678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approach can be compared to scheduling a machine shop floor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8440" y="4876920"/>
            <a:ext cx="5702760" cy="861480"/>
            <a:chOff x="1828440" y="4876920"/>
            <a:chExt cx="5702760" cy="861480"/>
          </a:xfrm>
        </p:grpSpPr>
        <p:cxnSp>
          <p:nvCxnSpPr>
            <p:cNvPr id="123" name=""/>
            <p:cNvCxnSpPr/>
            <p:nvPr/>
          </p:nvCxnSpPr>
          <p:spPr>
            <a:xfrm>
              <a:off x="1828440" y="539532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4" name=""/>
            <p:cNvSpPr/>
            <p:nvPr/>
          </p:nvSpPr>
          <p:spPr>
            <a:xfrm>
              <a:off x="2502000" y="528156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24" idx="6"/>
            </p:cNvCxnSpPr>
            <p:nvPr/>
          </p:nvCxnSpPr>
          <p:spPr>
            <a:xfrm flipV="1">
              <a:off x="2742840" y="5052600"/>
              <a:ext cx="292680" cy="3427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2178000" y="528156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2920" y="5281560"/>
              <a:ext cx="0" cy="228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8000" y="551016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28920" y="5319720"/>
              <a:ext cx="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70160" y="5319720"/>
              <a:ext cx="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49360" y="5319720"/>
              <a:ext cx="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6160" y="551016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32" idx="6"/>
            </p:cNvCxnSpPr>
            <p:nvPr/>
          </p:nvCxnSpPr>
          <p:spPr>
            <a:xfrm flipV="1">
              <a:off x="3627360" y="5585400"/>
              <a:ext cx="2075760" cy="385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34" name=""/>
            <p:cNvGrpSpPr/>
            <p:nvPr/>
          </p:nvGrpSpPr>
          <p:grpSpPr>
            <a:xfrm>
              <a:off x="3062160" y="5510160"/>
              <a:ext cx="304920" cy="228240"/>
              <a:chOff x="3062160" y="5510160"/>
              <a:chExt cx="304920" cy="228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062160" y="551016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67080" y="551016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62160" y="573840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130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5432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338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270320" y="518148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42" name=""/>
            <p:cNvCxnSpPr>
              <a:stCxn id="141" idx="6"/>
            </p:cNvCxnSpPr>
            <p:nvPr/>
          </p:nvCxnSpPr>
          <p:spPr>
            <a:xfrm>
              <a:off x="4511520" y="5295960"/>
              <a:ext cx="2029680" cy="1144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3946680" y="5181480"/>
              <a:ext cx="304560" cy="228240"/>
              <a:chOff x="3946680" y="5181480"/>
              <a:chExt cx="304560" cy="228240"/>
            </a:xfrm>
          </p:grpSpPr>
          <p:sp>
            <p:nvSpPr>
              <p:cNvPr id="144" name=""/>
              <p:cNvSpPr/>
              <p:nvPr/>
            </p:nvSpPr>
            <p:spPr>
              <a:xfrm>
                <a:off x="3946680" y="518148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51240" y="518148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46680" y="540972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97240" y="521928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38480" y="521928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18040" y="521928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130720" y="487692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51" name=""/>
            <p:cNvCxnSpPr>
              <a:stCxn id="150" idx="6"/>
            </p:cNvCxnSpPr>
            <p:nvPr/>
          </p:nvCxnSpPr>
          <p:spPr>
            <a:xfrm>
              <a:off x="5371920" y="4990680"/>
              <a:ext cx="1221480" cy="3427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52" name=""/>
            <p:cNvGrpSpPr/>
            <p:nvPr/>
          </p:nvGrpSpPr>
          <p:grpSpPr>
            <a:xfrm>
              <a:off x="4807080" y="4876920"/>
              <a:ext cx="304560" cy="228240"/>
              <a:chOff x="4807080" y="4876920"/>
              <a:chExt cx="304560" cy="228240"/>
            </a:xfrm>
          </p:grpSpPr>
          <p:sp>
            <p:nvSpPr>
              <p:cNvPr id="153" name=""/>
              <p:cNvSpPr/>
              <p:nvPr/>
            </p:nvSpPr>
            <p:spPr>
              <a:xfrm>
                <a:off x="4807080" y="487692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11640" y="487692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07080" y="510516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5764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9888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7844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597720" y="5297400"/>
              <a:ext cx="933480" cy="228240"/>
              <a:chOff x="6597720" y="5297400"/>
              <a:chExt cx="933480" cy="22824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6921720" y="5297400"/>
                <a:ext cx="609480" cy="228240"/>
                <a:chOff x="6921720" y="5297400"/>
                <a:chExt cx="609480" cy="228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921720" y="5297400"/>
                  <a:ext cx="228600" cy="22824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cxnSp>
              <p:nvCxnSpPr>
                <p:cNvPr id="162" name=""/>
                <p:cNvCxnSpPr>
                  <a:stCxn id="161" idx="6"/>
                </p:cNvCxnSpPr>
                <p:nvPr/>
              </p:nvCxnSpPr>
              <p:spPr>
                <a:xfrm>
                  <a:off x="7162560" y="5410800"/>
                  <a:ext cx="36900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163" name=""/>
              <p:cNvGrpSpPr/>
              <p:nvPr/>
            </p:nvGrpSpPr>
            <p:grpSpPr>
              <a:xfrm>
                <a:off x="6597720" y="5297400"/>
                <a:ext cx="304920" cy="228240"/>
                <a:chOff x="6597720" y="5297400"/>
                <a:chExt cx="304920" cy="2282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597720" y="5297400"/>
                  <a:ext cx="3049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02640" y="5297400"/>
                  <a:ext cx="0" cy="2282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597720" y="5525640"/>
                  <a:ext cx="3049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848640" y="5335200"/>
                  <a:ext cx="0" cy="1522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689880" y="5335200"/>
                  <a:ext cx="0" cy="1522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440" y="5335200"/>
                  <a:ext cx="0" cy="1522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6006960" y="551016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71" name=""/>
            <p:cNvCxnSpPr>
              <a:stCxn id="170" idx="6"/>
            </p:cNvCxnSpPr>
            <p:nvPr/>
          </p:nvCxnSpPr>
          <p:spPr>
            <a:xfrm flipV="1">
              <a:off x="6248160" y="5433480"/>
              <a:ext cx="369000" cy="190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72" name=""/>
            <p:cNvGrpSpPr/>
            <p:nvPr/>
          </p:nvGrpSpPr>
          <p:grpSpPr>
            <a:xfrm>
              <a:off x="5683320" y="5510160"/>
              <a:ext cx="304560" cy="228240"/>
              <a:chOff x="5683320" y="5510160"/>
              <a:chExt cx="304560" cy="228240"/>
            </a:xfrm>
          </p:grpSpPr>
          <p:sp>
            <p:nvSpPr>
              <p:cNvPr id="173" name=""/>
              <p:cNvSpPr/>
              <p:nvPr/>
            </p:nvSpPr>
            <p:spPr>
              <a:xfrm>
                <a:off x="5683320" y="551016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87880" y="551016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83320" y="573840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338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7512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546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386160" y="487692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79" idx="6"/>
            </p:cNvCxnSpPr>
            <p:nvPr/>
          </p:nvCxnSpPr>
          <p:spPr>
            <a:xfrm flipV="1">
              <a:off x="3627360" y="4975920"/>
              <a:ext cx="1161360" cy="147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3062160" y="4876920"/>
              <a:ext cx="304920" cy="228240"/>
              <a:chOff x="3062160" y="4876920"/>
              <a:chExt cx="304920" cy="228240"/>
            </a:xfrm>
          </p:grpSpPr>
          <p:sp>
            <p:nvSpPr>
              <p:cNvPr id="182" name=""/>
              <p:cNvSpPr/>
              <p:nvPr/>
            </p:nvSpPr>
            <p:spPr>
              <a:xfrm>
                <a:off x="3062160" y="487692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67080" y="487692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62160" y="510516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1308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5432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3388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cxnSp>
          <p:nvCxnSpPr>
            <p:cNvPr id="188" name=""/>
            <p:cNvCxnSpPr>
              <a:stCxn id="124" idx="6"/>
            </p:cNvCxnSpPr>
            <p:nvPr/>
          </p:nvCxnSpPr>
          <p:spPr>
            <a:xfrm>
              <a:off x="2742840" y="5395680"/>
              <a:ext cx="292680" cy="190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79" idx="6"/>
            </p:cNvCxnSpPr>
            <p:nvPr/>
          </p:nvCxnSpPr>
          <p:spPr>
            <a:xfrm>
              <a:off x="3627000" y="4991040"/>
              <a:ext cx="322920" cy="2908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32" idx="6"/>
            </p:cNvCxnSpPr>
            <p:nvPr/>
          </p:nvCxnSpPr>
          <p:spPr>
            <a:xfrm flipV="1">
              <a:off x="3627000" y="5333400"/>
              <a:ext cx="259560" cy="2908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41" idx="6"/>
            </p:cNvCxnSpPr>
            <p:nvPr/>
          </p:nvCxnSpPr>
          <p:spPr>
            <a:xfrm flipV="1">
              <a:off x="4511160" y="5028840"/>
              <a:ext cx="289440" cy="2671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ta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roblems naturally “fall apart” into many nearly identical independent piece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ufficiently fine-grained that none dominates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easily aggregated to balance computation with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roblems are “made to order” for parallel computation, since decomposition is triv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828800" y="609588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ten so easy it’s known as “embarrassing parallelism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23720" y="4648320"/>
            <a:ext cx="2406960" cy="1218600"/>
            <a:chOff x="3123720" y="4648320"/>
            <a:chExt cx="2406960" cy="1218600"/>
          </a:xfrm>
        </p:grpSpPr>
        <p:sp>
          <p:nvSpPr>
            <p:cNvPr id="196" name=""/>
            <p:cNvSpPr/>
            <p:nvPr/>
          </p:nvSpPr>
          <p:spPr>
            <a:xfrm>
              <a:off x="4538520" y="464832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6" idx="6"/>
            </p:cNvCxnSpPr>
            <p:nvPr/>
          </p:nvCxnSpPr>
          <p:spPr>
            <a:xfrm>
              <a:off x="4779360" y="4762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4538520" y="497808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8" idx="6"/>
            </p:cNvCxnSpPr>
            <p:nvPr/>
          </p:nvCxnSpPr>
          <p:spPr>
            <a:xfrm>
              <a:off x="4779360" y="509220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538520" y="563868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201" name=""/>
            <p:cNvCxnSpPr>
              <a:stCxn id="200" idx="6"/>
            </p:cNvCxnSpPr>
            <p:nvPr/>
          </p:nvCxnSpPr>
          <p:spPr>
            <a:xfrm>
              <a:off x="4779360" y="575244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4538520" y="530820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203" name=""/>
            <p:cNvCxnSpPr>
              <a:stCxn id="202" idx="6"/>
            </p:cNvCxnSpPr>
            <p:nvPr/>
          </p:nvCxnSpPr>
          <p:spPr>
            <a:xfrm>
              <a:off x="4779360" y="542232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>
              <a:off x="4166640" y="47602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/>
            <p:nvPr/>
          </p:nvCxnSpPr>
          <p:spPr>
            <a:xfrm>
              <a:off x="4166640" y="509040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/>
            <p:nvPr/>
          </p:nvCxnSpPr>
          <p:spPr>
            <a:xfrm>
              <a:off x="4166640" y="575100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/>
            <p:nvPr/>
          </p:nvCxnSpPr>
          <p:spPr>
            <a:xfrm>
              <a:off x="4166640" y="54208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/>
            <p:nvPr/>
          </p:nvCxnSpPr>
          <p:spPr>
            <a:xfrm>
              <a:off x="4166640" y="4755600"/>
              <a:ext cx="1080" cy="99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209" name=""/>
            <p:cNvCxnSpPr/>
            <p:nvPr/>
          </p:nvCxnSpPr>
          <p:spPr>
            <a:xfrm>
              <a:off x="5157360" y="4771440"/>
              <a:ext cx="1080" cy="99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210" name=""/>
            <p:cNvCxnSpPr/>
            <p:nvPr/>
          </p:nvCxnSpPr>
          <p:spPr>
            <a:xfrm>
              <a:off x="5162040" y="5257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/>
            <p:nvPr/>
          </p:nvCxnSpPr>
          <p:spPr>
            <a:xfrm>
              <a:off x="3123720" y="5257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3481200" y="514944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86120" y="5149440"/>
              <a:ext cx="0" cy="228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81200" y="537804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2120" y="518760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73360" y="518760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2560" y="518760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218" name=""/>
            <p:cNvCxnSpPr/>
            <p:nvPr/>
          </p:nvCxnSpPr>
          <p:spPr>
            <a:xfrm>
              <a:off x="3798360" y="5257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07:29:42Z</dcterms:created>
  <dc:creator>Michael J. Mahon</dc:creator>
  <dc:description/>
  <dc:language>en-US</dc:language>
  <cp:lastModifiedBy>Michael J. Mahon</cp:lastModifiedBy>
  <cp:lastPrinted>2007-06-24T23:20:53Z</cp:lastPrinted>
  <dcterms:modified xsi:type="dcterms:W3CDTF">2008-07-20T18:43:35Z</dcterms:modified>
  <cp:revision>40</cp:revision>
  <dc:subject/>
  <dc:title>NadaNet Networking for Apple II’s</dc:title>
</cp:coreProperties>
</file>