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8E9-3338-4A33-94B3-26EFCC64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95AD-1109-4B3D-9823-A7D80FAF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F7C7-40B8-4E20-8481-B1F7B6C9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1210-0794-4679-AD24-DB39BC32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141-C956-4F07-9BBD-BF0561FB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6DF-3F16-4D01-A853-C0171B66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C36-5CC2-40BA-BB6E-BE9BC61E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5C7D-FDC5-4FF5-B08F-8202A040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62D-245B-429D-A9D1-EB2CCAD2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D6F5-97FA-436F-8867-F80C62B8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4FE7-89E1-4B1A-B2D0-EFA1AE89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DF33-F7EF-4665-B83F-EA04E02A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BEC6-99F2-4968-AF69-E5009FBE7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KFest2007LogoMednotextBlue.jpg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6320" y="6165720"/>
            <a:ext cx="1371600" cy="615960"/>
          </a:xfrm>
          <a:prstGeom prst="rect">
            <a:avLst/>
          </a:prstGeom>
          <a:ln w="0">
            <a:noFill/>
          </a:ln>
        </p:spPr>
      </p:pic>
      <p:pic>
        <p:nvPicPr>
          <p:cNvPr id="6" name="AppleII-logoBluea" descr=""/>
          <p:cNvPicPr/>
          <p:nvPr/>
        </p:nvPicPr>
        <p:blipFill>
          <a:blip r:embed="rId3"/>
          <a:stretch/>
        </p:blipFill>
        <p:spPr>
          <a:xfrm>
            <a:off x="7543800" y="6257880"/>
            <a:ext cx="1436760" cy="44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eal Sound for 8-bit Apple II’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hael Mah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ically 32 separate pulse gen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generates two pulses in 92 cyc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fetches next sample and sets ve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it vectors to next gene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ation i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ribu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etween pulse ed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DAC522</a:t>
            </a:r>
            <a:br>
              <a:rPr sz="44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tant 92 cycles, 46-cycle pulse period, 5-bit precis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24160" y="4876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ulse frequency of 22kHz is inaudibl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DAC522 Pulse Generato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041560" y="19047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41560" y="1905120"/>
            <a:ext cx="190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32000" y="1905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32000" y="2438280"/>
            <a:ext cx="2631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6" name=""/>
          <p:cNvCxnSpPr/>
          <p:nvPr/>
        </p:nvCxnSpPr>
        <p:spPr>
          <a:xfrm flipV="1">
            <a:off x="2041200" y="2665080"/>
            <a:ext cx="229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7" name=""/>
          <p:cNvSpPr/>
          <p:nvPr/>
        </p:nvSpPr>
        <p:spPr>
          <a:xfrm flipV="1">
            <a:off x="2041560" y="2666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/>
          <p:nvPr/>
        </p:nvCxnSpPr>
        <p:spPr>
          <a:xfrm>
            <a:off x="2269800" y="26654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9" name=""/>
          <p:cNvCxnSpPr/>
          <p:nvPr/>
        </p:nvCxnSpPr>
        <p:spPr>
          <a:xfrm>
            <a:off x="2269800" y="3198960"/>
            <a:ext cx="25945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20" name=""/>
          <p:cNvCxnSpPr/>
          <p:nvPr/>
        </p:nvCxnSpPr>
        <p:spPr>
          <a:xfrm>
            <a:off x="2041200" y="3428640"/>
            <a:ext cx="2671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21" name=""/>
          <p:cNvSpPr/>
          <p:nvPr/>
        </p:nvSpPr>
        <p:spPr>
          <a:xfrm flipV="1">
            <a:off x="204156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2307960" y="342900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>
            <a:off x="2307960" y="3962160"/>
            <a:ext cx="25563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24" name=""/>
          <p:cNvCxnSpPr/>
          <p:nvPr/>
        </p:nvCxnSpPr>
        <p:spPr>
          <a:xfrm>
            <a:off x="2041200" y="419076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25" name=""/>
          <p:cNvSpPr/>
          <p:nvPr/>
        </p:nvSpPr>
        <p:spPr>
          <a:xfrm flipV="1">
            <a:off x="2041560" y="41907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6" name=""/>
          <p:cNvCxnSpPr/>
          <p:nvPr/>
        </p:nvCxnSpPr>
        <p:spPr>
          <a:xfrm>
            <a:off x="2346120" y="419076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>
            <a:off x="2346120" y="4723920"/>
            <a:ext cx="251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128" name=""/>
          <p:cNvGrpSpPr/>
          <p:nvPr/>
        </p:nvGrpSpPr>
        <p:grpSpPr>
          <a:xfrm>
            <a:off x="2041200" y="5562360"/>
            <a:ext cx="2822760" cy="533880"/>
            <a:chOff x="2041200" y="5562360"/>
            <a:chExt cx="2822760" cy="533880"/>
          </a:xfrm>
        </p:grpSpPr>
        <p:cxnSp>
          <p:nvCxnSpPr>
            <p:cNvPr id="129" name=""/>
            <p:cNvCxnSpPr/>
            <p:nvPr/>
          </p:nvCxnSpPr>
          <p:spPr>
            <a:xfrm>
              <a:off x="2041200" y="5562360"/>
              <a:ext cx="25182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30" name=""/>
            <p:cNvSpPr/>
            <p:nvPr/>
          </p:nvSpPr>
          <p:spPr>
            <a:xfrm flipV="1">
              <a:off x="2041560" y="55623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/>
            <p:nvPr/>
          </p:nvCxnSpPr>
          <p:spPr>
            <a:xfrm>
              <a:off x="4558680" y="5562360"/>
              <a:ext cx="1080" cy="5338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2" name=""/>
            <p:cNvCxnSpPr/>
            <p:nvPr/>
          </p:nvCxnSpPr>
          <p:spPr>
            <a:xfrm>
              <a:off x="4558680" y="6095520"/>
              <a:ext cx="3056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sp>
        <p:nvSpPr>
          <p:cNvPr id="133" name=""/>
          <p:cNvSpPr/>
          <p:nvPr/>
        </p:nvSpPr>
        <p:spPr>
          <a:xfrm rot="16200000">
            <a:off x="3070080" y="49179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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046240" y="1599840"/>
            <a:ext cx="2822760" cy="152280"/>
            <a:chOff x="2046240" y="1599840"/>
            <a:chExt cx="2822760" cy="152280"/>
          </a:xfrm>
        </p:grpSpPr>
        <p:sp>
          <p:nvSpPr>
            <p:cNvPr id="135" name=""/>
            <p:cNvSpPr/>
            <p:nvPr/>
          </p:nvSpPr>
          <p:spPr>
            <a:xfrm flipV="1">
              <a:off x="2046240" y="1599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869000" y="1599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46240" y="1676520"/>
              <a:ext cx="2822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87560" y="1644480"/>
            <a:ext cx="11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6 cyc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869000" y="19047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69000" y="1905120"/>
            <a:ext cx="190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59440" y="1905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59440" y="2438280"/>
            <a:ext cx="2631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"/>
          <p:cNvCxnSpPr/>
          <p:nvPr/>
        </p:nvCxnSpPr>
        <p:spPr>
          <a:xfrm flipV="1">
            <a:off x="4868640" y="2665080"/>
            <a:ext cx="229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4" name=""/>
          <p:cNvSpPr/>
          <p:nvPr/>
        </p:nvSpPr>
        <p:spPr>
          <a:xfrm flipV="1">
            <a:off x="4869000" y="2666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5" name=""/>
          <p:cNvCxnSpPr/>
          <p:nvPr/>
        </p:nvCxnSpPr>
        <p:spPr>
          <a:xfrm>
            <a:off x="5097240" y="26654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6" name=""/>
          <p:cNvCxnSpPr/>
          <p:nvPr/>
        </p:nvCxnSpPr>
        <p:spPr>
          <a:xfrm>
            <a:off x="5097240" y="3198960"/>
            <a:ext cx="25945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7" name=""/>
          <p:cNvCxnSpPr/>
          <p:nvPr/>
        </p:nvCxnSpPr>
        <p:spPr>
          <a:xfrm>
            <a:off x="4869000" y="3428640"/>
            <a:ext cx="2671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8" name=""/>
          <p:cNvSpPr/>
          <p:nvPr/>
        </p:nvSpPr>
        <p:spPr>
          <a:xfrm flipV="1">
            <a:off x="48690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9" name=""/>
          <p:cNvCxnSpPr/>
          <p:nvPr/>
        </p:nvCxnSpPr>
        <p:spPr>
          <a:xfrm>
            <a:off x="5135040" y="342900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0" name=""/>
          <p:cNvCxnSpPr/>
          <p:nvPr/>
        </p:nvCxnSpPr>
        <p:spPr>
          <a:xfrm>
            <a:off x="5135400" y="3962160"/>
            <a:ext cx="255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1" name=""/>
          <p:cNvCxnSpPr/>
          <p:nvPr/>
        </p:nvCxnSpPr>
        <p:spPr>
          <a:xfrm>
            <a:off x="4869000" y="4190760"/>
            <a:ext cx="3052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2" name=""/>
          <p:cNvSpPr/>
          <p:nvPr/>
        </p:nvSpPr>
        <p:spPr>
          <a:xfrm flipV="1">
            <a:off x="4869000" y="41907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3" name=""/>
          <p:cNvCxnSpPr/>
          <p:nvPr/>
        </p:nvCxnSpPr>
        <p:spPr>
          <a:xfrm>
            <a:off x="5173200" y="419076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4" name=""/>
          <p:cNvCxnSpPr/>
          <p:nvPr/>
        </p:nvCxnSpPr>
        <p:spPr>
          <a:xfrm>
            <a:off x="5173560" y="4723920"/>
            <a:ext cx="251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155" name=""/>
          <p:cNvGrpSpPr/>
          <p:nvPr/>
        </p:nvGrpSpPr>
        <p:grpSpPr>
          <a:xfrm>
            <a:off x="4868640" y="5562360"/>
            <a:ext cx="2822760" cy="533880"/>
            <a:chOff x="4868640" y="5562360"/>
            <a:chExt cx="2822760" cy="533880"/>
          </a:xfrm>
        </p:grpSpPr>
        <p:cxnSp>
          <p:nvCxnSpPr>
            <p:cNvPr id="156" name=""/>
            <p:cNvCxnSpPr/>
            <p:nvPr/>
          </p:nvCxnSpPr>
          <p:spPr>
            <a:xfrm>
              <a:off x="4868640" y="5562360"/>
              <a:ext cx="25182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57" name=""/>
            <p:cNvSpPr/>
            <p:nvPr/>
          </p:nvSpPr>
          <p:spPr>
            <a:xfrm flipV="1">
              <a:off x="4869000" y="55623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/>
            <p:nvPr/>
          </p:nvCxnSpPr>
          <p:spPr>
            <a:xfrm>
              <a:off x="7386120" y="5562360"/>
              <a:ext cx="1080" cy="5338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59" name=""/>
            <p:cNvCxnSpPr/>
            <p:nvPr/>
          </p:nvCxnSpPr>
          <p:spPr>
            <a:xfrm>
              <a:off x="7386120" y="6095520"/>
              <a:ext cx="3056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sp>
        <p:nvSpPr>
          <p:cNvPr id="160" name=""/>
          <p:cNvSpPr/>
          <p:nvPr/>
        </p:nvSpPr>
        <p:spPr>
          <a:xfrm rot="16200000">
            <a:off x="5897520" y="49179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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873680" y="1599840"/>
            <a:ext cx="2822400" cy="152280"/>
            <a:chOff x="4873680" y="1599840"/>
            <a:chExt cx="2822400" cy="152280"/>
          </a:xfrm>
        </p:grpSpPr>
        <p:sp>
          <p:nvSpPr>
            <p:cNvPr id="162" name=""/>
            <p:cNvSpPr/>
            <p:nvPr/>
          </p:nvSpPr>
          <p:spPr>
            <a:xfrm flipV="1">
              <a:off x="4873680" y="1599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696080" y="1599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3680" y="1676520"/>
              <a:ext cx="28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707080" y="1644480"/>
            <a:ext cx="13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6 cyc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64080" y="57150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68800" y="5715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7960" y="5715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83600" y="57150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68800" y="4343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49480" y="4343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69000" y="4343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87960" y="4343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68800" y="3581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33640" y="3581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69000" y="3581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87960" y="3581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8800" y="2819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17800" y="2819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6960" y="2819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87960" y="2819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688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9548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2292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8796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58760" y="57150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58760" y="43434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58760" y="35812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58760" y="28195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58760" y="20574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371600"/>
            <a:ext cx="118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ple val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860400" y="491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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Other Problem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ing and stopping without “pop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ution:  Don’t stop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mp” waves to start and stop at 0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te continuous 0-level pulses (except for key cli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ting long sounds at 11kB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ution:  Direct Digital Synth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ample wavetables on-the-f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envelope table for dynam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T.SYNTH</a:t>
            </a:r>
            <a:br>
              <a:rPr sz="44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Single-voice multi-timbral real-time wavetable synthesize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ice waves are resampled on-the-fly to note frequ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 = Integer.fraction sample index incr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support as many different voices as fit in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voice is represented as a set of single-cycl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veshap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elected by a table representing th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velop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f the voi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sup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nal voices with complex attacks that are resampl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tonal sounds that are played as “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table waveforms are stored starting and ending at zero amplitude to minimize p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ting” or idling sound is the zero-level pulse tr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114800" y="5105520"/>
            <a:ext cx="914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2217600"/>
            <a:ext cx="838080" cy="569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1371600"/>
            <a:ext cx="54100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00: 8D 30 C0 &gt;6    gen0     sta   spkr       ; &lt;==== start time: 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03: EA       &gt;7             nop              ; Kill 2 cycl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04: 8D 30 C0 &gt;8             sta   spkr       ; &lt;===== stop time: 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07: 85 EB    &gt;9             sta   ztrash     ; Kill 3 cycl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09: E6 ED    &gt;10            inc   scount     ; Compute envelop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&gt;11            ciny           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0B: F0 01    &gt;11            beq   *+3        ; If =, branch to in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0D: A5       &gt;11            dfb   $A5        ; "lda $C8" to skip in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0E: C8       &gt;11            iny             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&gt;11            eom            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0F: 18       &gt;12            clc            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10: A5 EC    &gt;13            lda   frac       ; Compute next samp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12: 65 FE    &gt;14            adc   freq     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14: 85 EC    &gt;15            sta   frac     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16: 8A       &gt;16            txa            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17: 65 FF    &gt;17            adc   freq+1   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19: AA       &gt;18            tax            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1A: B1 06    &gt;19            lda   (env),y    ; Next sample pag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1C: 8D 30 C0 &gt;20            sta   spkr       ; &lt;==== start time: 4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1F: EA       &gt;21            nop              ; Kill 2 cycl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20: 8D 30 C0 &gt;22            sta   spkr       ; &lt;===== stop time: 5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23: 85 EB    &gt;23            sta   ztrash     ; Kill 3 cycl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25: 8D 2A 08 &gt;24            sta   :ptr+2   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28: BD 00 00 &gt;25   :ptr     ldaa  0*0,x      ; Fetch sample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2B: 8D 3C 08 &gt;26            sta   :sw0+2   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2E: C6 FC    &gt;27            dec   dur        ; Decrement dur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&gt;28            cdec  dur+1    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30: F0 02    &gt;28            beq   *+4        ; If eq, branch to de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32: EA       &gt;28            nop              ; Else kill 2 cycles 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33: AD       &gt;28            dfb   $AD        ;  "lda xxxx" to skip de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34: C6 FD    &gt;28            dec   dur+1      ;    of zero-page param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&gt;28            eom            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36: A5 FD    &gt;29            lda   dur+1    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38: F0 03    &gt;30            beq   :quit      ; Finished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3A: 4C 00 00 &gt;31   :sw0     jmp   0*0        ; Switch to gen, T = 89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&gt;32 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083D: 4C 40 09 &gt;33   :quit    jmp   quit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DAC522 Generator Co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RATE.SYNTH</a:t>
            </a:r>
            <a:br>
              <a:rPr sz="44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8-voice multi-timbral MIDI playback wavetable synthesizer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AppleCrate machines as eight digital oscill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DI.COMPI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ges multi-stream MIDI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o changes complicate timekee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edules 8 digital oscillators in one 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ies to re-use oscillators with a voice his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&gt;8 oscillators needed, “steals” from oldest n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ATE.SYN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s NadaNet to load the 8 oscillator mach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s them all in sync (AppleCrate drift is ~1 ms. in 40 sec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Questions and discussion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Apple II speaker</a:t>
            </a:r>
            <a:br>
              <a:rPr sz="4400"/>
            </a:b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(and cassette output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only toggle “1-bit outpu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’t choose “polarit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n’t respond to alternate low-frequency togg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Simple Sou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ble-frequency timing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quarewaves (beep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ual frequency timing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50% duty cycle, timbre (Red Boo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nitely-clipped 1-bit 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orted speech and music (Hex Dump Reader, Audex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omplex Sou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tras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iming loop with variable du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cle pul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ic Duet (4 duty cycles = 2-bit precis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ftware Automatic Mouth (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d sound (many duty cyc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Variable Duty Cyc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744560" y="19047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44560" y="19051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25800" y="1905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25800" y="2438280"/>
            <a:ext cx="5257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6" name=""/>
          <p:cNvCxnSpPr/>
          <p:nvPr/>
        </p:nvCxnSpPr>
        <p:spPr>
          <a:xfrm flipV="1">
            <a:off x="1744560" y="2665080"/>
            <a:ext cx="457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7" name=""/>
          <p:cNvSpPr/>
          <p:nvPr/>
        </p:nvSpPr>
        <p:spPr>
          <a:xfrm flipV="1">
            <a:off x="1744560" y="2666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8" name=""/>
          <p:cNvCxnSpPr/>
          <p:nvPr/>
        </p:nvCxnSpPr>
        <p:spPr>
          <a:xfrm>
            <a:off x="2201400" y="26654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9" name=""/>
          <p:cNvCxnSpPr/>
          <p:nvPr/>
        </p:nvCxnSpPr>
        <p:spPr>
          <a:xfrm>
            <a:off x="2201760" y="3198960"/>
            <a:ext cx="5182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0" name=""/>
          <p:cNvCxnSpPr/>
          <p:nvPr/>
        </p:nvCxnSpPr>
        <p:spPr>
          <a:xfrm>
            <a:off x="1744560" y="3428640"/>
            <a:ext cx="5342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61" name=""/>
          <p:cNvSpPr/>
          <p:nvPr/>
        </p:nvSpPr>
        <p:spPr>
          <a:xfrm flipV="1">
            <a:off x="174456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" name=""/>
          <p:cNvCxnSpPr/>
          <p:nvPr/>
        </p:nvCxnSpPr>
        <p:spPr>
          <a:xfrm>
            <a:off x="2277720" y="342900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3" name=""/>
          <p:cNvCxnSpPr/>
          <p:nvPr/>
        </p:nvCxnSpPr>
        <p:spPr>
          <a:xfrm>
            <a:off x="2278080" y="3962160"/>
            <a:ext cx="51062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4" name=""/>
          <p:cNvCxnSpPr/>
          <p:nvPr/>
        </p:nvCxnSpPr>
        <p:spPr>
          <a:xfrm>
            <a:off x="1744560" y="4190760"/>
            <a:ext cx="610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65" name=""/>
          <p:cNvSpPr/>
          <p:nvPr/>
        </p:nvSpPr>
        <p:spPr>
          <a:xfrm flipV="1">
            <a:off x="1744560" y="41907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6" name=""/>
          <p:cNvCxnSpPr/>
          <p:nvPr/>
        </p:nvCxnSpPr>
        <p:spPr>
          <a:xfrm>
            <a:off x="2354040" y="419076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7" name=""/>
          <p:cNvCxnSpPr/>
          <p:nvPr/>
        </p:nvCxnSpPr>
        <p:spPr>
          <a:xfrm>
            <a:off x="2354400" y="4723920"/>
            <a:ext cx="5029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8" name=""/>
          <p:cNvCxnSpPr/>
          <p:nvPr/>
        </p:nvCxnSpPr>
        <p:spPr>
          <a:xfrm>
            <a:off x="1744560" y="5638320"/>
            <a:ext cx="4580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69" name=""/>
          <p:cNvSpPr/>
          <p:nvPr/>
        </p:nvSpPr>
        <p:spPr>
          <a:xfrm flipV="1">
            <a:off x="1744560" y="5638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0" name=""/>
          <p:cNvCxnSpPr/>
          <p:nvPr/>
        </p:nvCxnSpPr>
        <p:spPr>
          <a:xfrm>
            <a:off x="6324120" y="563868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1" name=""/>
          <p:cNvCxnSpPr/>
          <p:nvPr/>
        </p:nvCxnSpPr>
        <p:spPr>
          <a:xfrm>
            <a:off x="6324480" y="6172200"/>
            <a:ext cx="10598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2" name=""/>
          <p:cNvSpPr/>
          <p:nvPr/>
        </p:nvSpPr>
        <p:spPr>
          <a:xfrm rot="16200000">
            <a:off x="3994200" y="4919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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752480" y="1599840"/>
            <a:ext cx="5638680" cy="152280"/>
            <a:chOff x="1752480" y="1599840"/>
            <a:chExt cx="5638680" cy="152280"/>
          </a:xfrm>
        </p:grpSpPr>
        <p:sp>
          <p:nvSpPr>
            <p:cNvPr id="74" name=""/>
            <p:cNvSpPr/>
            <p:nvPr/>
          </p:nvSpPr>
          <p:spPr>
            <a:xfrm flipV="1">
              <a:off x="1752480" y="1599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391160" y="1599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1676520"/>
              <a:ext cx="5638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809880" y="1644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3 cyc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82800" y="5791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82800" y="43434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82800" y="3581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82800" y="2819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82800" y="20574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371600"/>
            <a:ext cx="118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ple val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5835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61080" y="5835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4387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4387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3625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3625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2863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19440" y="2863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2101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7120" y="2101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793800" y="491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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Software DAC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rate (11.025kH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se rate (11.025kHz / 22.05kH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s of precision (3, 4, 5, 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iming Constrai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kHz = 93 Apple II cycles/s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93cy = 10.973kHz, -52Hz, -0.00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92cy = 11.092kHz, +67Hz, +0.00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e II timing resolution = 1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ycles required to flip spea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cycles per pulse, 4-cycle minimum 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nd amplitude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dth / peri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Software DAC loop example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irst try: constant 93 cycles, 6-bit precis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op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4  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[Start pulse]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3   JMP vector1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&lt;0-63 Variable delay&gt;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4  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[End 7-70 cycle pulse]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3   JMP vector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&lt;63-0 Complementary variable delay&gt;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5   Fetch next sampl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2   Check for end (if =0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   Increment ptr,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6   Shift sampl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4   Get vector1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4   Set vector1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2   Transform vector1--&gt; vector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4   Set vector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3   JMP lo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533412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7 cycles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** 24 cycles too long! *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81240" y="534528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DAC611</a:t>
            </a:r>
            <a:br>
              <a:rPr sz="44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tant 93 cycles, 93-cycle pulse period, 6-bit precis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op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4  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[Start pulse]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6   Get vector1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4   Set vector1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3   JMP vector1 (--&gt;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o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 if &gt;$7F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&lt;2-33 delay&gt;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4  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[End 19-50 cycle pulse]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4   Transform vector1--&gt;vector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4   Set vector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3   JMP vector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&lt;33-2 complementary delay&gt;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   Increment ptr,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5   Fetch next sampl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2   Test for end if =0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6   Shift 3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JMP loop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3 cy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676520"/>
            <a:ext cx="40384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n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   (entered at +17 cycles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&lt;2-33 delay&gt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   Increment ptr,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4   Transform vector1--&gt;vector2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4   Set vector2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5   Fetch next sampl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2   Test for end if =0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6   Shift 3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4  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[End 51-82 cycle pulse]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3   JMP vector2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&lt;33-2 complementary delay&gt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2   NOP</a:t>
            </a:r>
            <a:br>
              <a:rPr sz="1600"/>
            </a:b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  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[falls into loop]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3 cycles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57913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ulse frequency of 11kHz is intolerable to many listener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54864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[Greg Templeman, 1993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21:47:59Z</dcterms:created>
  <dc:creator>Michael J. Mahon</dc:creator>
  <dc:description/>
  <dc:language>en-US</dc:language>
  <cp:lastModifiedBy>Michael J. Mahon</cp:lastModifiedBy>
  <cp:lastPrinted>2007-06-24T23:29:17Z</cp:lastPrinted>
  <dcterms:modified xsi:type="dcterms:W3CDTF">2007-07-13T16:34:18Z</dcterms:modified>
  <cp:revision>10</cp:revision>
  <dc:subject/>
  <dc:title>Real Sound for 8-bit Apple II’s </dc:title>
</cp:coreProperties>
</file>