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7077075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E506E-37AF-459A-B9FB-DBC15BF35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B086E-67FC-483E-90F6-42DFE21F1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2FE42-D5E7-460F-97F1-B520082D3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14176-B451-4407-8AA9-05C9B27D1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E544F-2F69-4D04-8A3C-52CE3BD15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2A164-BCE7-44E4-9108-C76B3C577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3B1A5-556F-4DA5-87D1-FD701BC70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B7418-A415-4A25-BB1D-673A57C38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2F124-99B1-4FC6-8E30-6B59E896A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6ABA4-BFD6-4AA4-8A70-21AF5A474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A6C18-EF10-45B0-93B3-534328844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FE48D-7462-4633-B2B8-82255E723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363D2-1D60-46AD-80DF-3BDD6DBC892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KFest2007LogoMednotextBlue.jpg" descr=""/>
          <p:cNvPicPr/>
          <p:nvPr/>
        </p:nvPicPr>
        <p:blipFill>
          <a:blip r:embed="rId2">
            <a:lum bright="-6000"/>
          </a:blip>
          <a:stretch/>
        </p:blipFill>
        <p:spPr>
          <a:xfrm>
            <a:off x="76320" y="6165720"/>
            <a:ext cx="1371600" cy="615960"/>
          </a:xfrm>
          <a:prstGeom prst="rect">
            <a:avLst/>
          </a:prstGeom>
          <a:ln w="0">
            <a:noFill/>
          </a:ln>
        </p:spPr>
      </p:pic>
      <p:pic>
        <p:nvPicPr>
          <p:cNvPr id="6" name="AppleII-logoBluea" descr=""/>
          <p:cNvPicPr/>
          <p:nvPr/>
        </p:nvPicPr>
        <p:blipFill>
          <a:blip r:embed="rId3"/>
          <a:stretch/>
        </p:blipFill>
        <p:spPr>
          <a:xfrm>
            <a:off x="7543800" y="6257880"/>
            <a:ext cx="1436760" cy="447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Arial"/>
              </a:rPr>
              <a:t>NadaNet Networking</a:t>
            </a:r>
            <a:br>
              <a:rPr sz="3600"/>
            </a:br>
            <a:r>
              <a:rPr b="0" lang="en-US" sz="3600" spc="-1" strike="noStrike">
                <a:solidFill>
                  <a:srgbClr val="00ffff"/>
                </a:solidFill>
                <a:latin typeface="Arial"/>
              </a:rPr>
              <a:t>for Apple II Programmers</a:t>
            </a:r>
            <a:endParaRPr b="0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58128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chael Mah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43000" y="5108400"/>
            <a:ext cx="762120" cy="533520"/>
          </a:xfrm>
          <a:prstGeom prst="rect">
            <a:avLst/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376360" y="5108400"/>
            <a:ext cx="762120" cy="533520"/>
          </a:xfrm>
          <a:prstGeom prst="rect">
            <a:avLst/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611520" y="5108400"/>
            <a:ext cx="762120" cy="533520"/>
          </a:xfrm>
          <a:prstGeom prst="rect">
            <a:avLst/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844880" y="5108400"/>
            <a:ext cx="762120" cy="533520"/>
          </a:xfrm>
          <a:prstGeom prst="rect">
            <a:avLst/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80040" y="5108400"/>
            <a:ext cx="762120" cy="533520"/>
          </a:xfrm>
          <a:prstGeom prst="rect">
            <a:avLst/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315200" y="5108400"/>
            <a:ext cx="762120" cy="533520"/>
          </a:xfrm>
          <a:prstGeom prst="rect">
            <a:avLst/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51" name=""/>
          <p:cNvCxnSpPr>
            <a:stCxn id="45" idx="0"/>
            <a:endCxn id="52" idx="2"/>
          </p:cNvCxnSpPr>
          <p:nvPr/>
        </p:nvCxnSpPr>
        <p:spPr>
          <a:xfrm flipV="1">
            <a:off x="1523880" y="4711320"/>
            <a:ext cx="1800" cy="397440"/>
          </a:xfrm>
          <a:prstGeom prst="straightConnector1">
            <a:avLst/>
          </a:prstGeom>
          <a:ln w="25560">
            <a:solidFill>
              <a:srgbClr val="ffff00"/>
            </a:solidFill>
            <a:miter/>
          </a:ln>
        </p:spPr>
      </p:cxnSp>
      <p:cxnSp>
        <p:nvCxnSpPr>
          <p:cNvPr id="53" name=""/>
          <p:cNvCxnSpPr>
            <a:stCxn id="47" idx="0"/>
            <a:endCxn id="54" idx="2"/>
          </p:cNvCxnSpPr>
          <p:nvPr/>
        </p:nvCxnSpPr>
        <p:spPr>
          <a:xfrm flipV="1">
            <a:off x="3992400" y="4711320"/>
            <a:ext cx="1800" cy="397440"/>
          </a:xfrm>
          <a:prstGeom prst="straightConnector1">
            <a:avLst/>
          </a:prstGeom>
          <a:ln w="25560">
            <a:solidFill>
              <a:srgbClr val="ffff00"/>
            </a:solidFill>
            <a:miter/>
          </a:ln>
        </p:spPr>
      </p:cxnSp>
      <p:cxnSp>
        <p:nvCxnSpPr>
          <p:cNvPr id="55" name=""/>
          <p:cNvCxnSpPr>
            <a:stCxn id="48" idx="0"/>
            <a:endCxn id="56" idx="2"/>
          </p:cNvCxnSpPr>
          <p:nvPr/>
        </p:nvCxnSpPr>
        <p:spPr>
          <a:xfrm flipV="1">
            <a:off x="5225760" y="4711320"/>
            <a:ext cx="2160" cy="397440"/>
          </a:xfrm>
          <a:prstGeom prst="straightConnector1">
            <a:avLst/>
          </a:prstGeom>
          <a:ln w="25560">
            <a:solidFill>
              <a:srgbClr val="ffff00"/>
            </a:solidFill>
            <a:miter/>
          </a:ln>
        </p:spPr>
      </p:cxnSp>
      <p:cxnSp>
        <p:nvCxnSpPr>
          <p:cNvPr id="57" name=""/>
          <p:cNvCxnSpPr>
            <a:stCxn id="50" idx="0"/>
            <a:endCxn id="58" idx="2"/>
          </p:cNvCxnSpPr>
          <p:nvPr/>
        </p:nvCxnSpPr>
        <p:spPr>
          <a:xfrm flipV="1">
            <a:off x="7696080" y="4711320"/>
            <a:ext cx="1800" cy="397440"/>
          </a:xfrm>
          <a:prstGeom prst="straightConnector1">
            <a:avLst/>
          </a:prstGeom>
          <a:ln w="25560">
            <a:solidFill>
              <a:srgbClr val="ffff00"/>
            </a:solidFill>
            <a:miter/>
          </a:ln>
        </p:spPr>
      </p:cxnSp>
      <p:cxnSp>
        <p:nvCxnSpPr>
          <p:cNvPr id="59" name=""/>
          <p:cNvCxnSpPr>
            <a:stCxn id="49" idx="0"/>
            <a:endCxn id="60" idx="2"/>
          </p:cNvCxnSpPr>
          <p:nvPr/>
        </p:nvCxnSpPr>
        <p:spPr>
          <a:xfrm flipV="1">
            <a:off x="6460920" y="4711320"/>
            <a:ext cx="1800" cy="397440"/>
          </a:xfrm>
          <a:prstGeom prst="straightConnector1">
            <a:avLst/>
          </a:prstGeom>
          <a:ln w="25560">
            <a:solidFill>
              <a:srgbClr val="ffff00"/>
            </a:solidFill>
            <a:miter/>
          </a:ln>
        </p:spPr>
      </p:cxnSp>
      <p:cxnSp>
        <p:nvCxnSpPr>
          <p:cNvPr id="61" name=""/>
          <p:cNvCxnSpPr>
            <a:stCxn id="46" idx="0"/>
            <a:endCxn id="62" idx="2"/>
          </p:cNvCxnSpPr>
          <p:nvPr/>
        </p:nvCxnSpPr>
        <p:spPr>
          <a:xfrm flipH="1" flipV="1">
            <a:off x="2751120" y="4711320"/>
            <a:ext cx="6480" cy="397440"/>
          </a:xfrm>
          <a:prstGeom prst="straightConnector1">
            <a:avLst/>
          </a:prstGeom>
          <a:ln w="25560">
            <a:solidFill>
              <a:srgbClr val="ffff00"/>
            </a:solidFill>
            <a:miter/>
          </a:ln>
        </p:spPr>
      </p:cxnSp>
      <p:sp>
        <p:nvSpPr>
          <p:cNvPr id="52" name=""/>
          <p:cNvSpPr/>
          <p:nvPr/>
        </p:nvSpPr>
        <p:spPr>
          <a:xfrm>
            <a:off x="1411200" y="4495680"/>
            <a:ext cx="228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637000" y="4495680"/>
            <a:ext cx="228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879720" y="4495680"/>
            <a:ext cx="228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113440" y="4495680"/>
            <a:ext cx="228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348240" y="4495680"/>
            <a:ext cx="228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583400" y="4495680"/>
            <a:ext cx="228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822240" y="4703760"/>
            <a:ext cx="7543800" cy="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4" name="AppleII-logoBluea" descr=""/>
          <p:cNvPicPr/>
          <p:nvPr/>
        </p:nvPicPr>
        <p:blipFill>
          <a:blip r:embed="rId1"/>
          <a:stretch/>
        </p:blipFill>
        <p:spPr>
          <a:xfrm>
            <a:off x="1179360" y="5267160"/>
            <a:ext cx="702000" cy="219240"/>
          </a:xfrm>
          <a:prstGeom prst="rect">
            <a:avLst/>
          </a:prstGeom>
          <a:ln w="0">
            <a:noFill/>
          </a:ln>
        </p:spPr>
      </p:pic>
      <p:pic>
        <p:nvPicPr>
          <p:cNvPr id="65" name="AppleII-logoBluea" descr=""/>
          <p:cNvPicPr/>
          <p:nvPr/>
        </p:nvPicPr>
        <p:blipFill>
          <a:blip r:embed="rId2"/>
          <a:stretch/>
        </p:blipFill>
        <p:spPr>
          <a:xfrm>
            <a:off x="2414520" y="5267160"/>
            <a:ext cx="701640" cy="219240"/>
          </a:xfrm>
          <a:prstGeom prst="rect">
            <a:avLst/>
          </a:prstGeom>
          <a:ln w="0">
            <a:noFill/>
          </a:ln>
        </p:spPr>
      </p:pic>
      <p:pic>
        <p:nvPicPr>
          <p:cNvPr id="66" name="AppleII-logoBluea" descr=""/>
          <p:cNvPicPr/>
          <p:nvPr/>
        </p:nvPicPr>
        <p:blipFill>
          <a:blip r:embed="rId3"/>
          <a:stretch/>
        </p:blipFill>
        <p:spPr>
          <a:xfrm>
            <a:off x="3649680" y="5267160"/>
            <a:ext cx="701640" cy="219240"/>
          </a:xfrm>
          <a:prstGeom prst="rect">
            <a:avLst/>
          </a:prstGeom>
          <a:ln w="0">
            <a:noFill/>
          </a:ln>
        </p:spPr>
      </p:pic>
      <p:pic>
        <p:nvPicPr>
          <p:cNvPr id="67" name="AppleII-logoBluea" descr=""/>
          <p:cNvPicPr/>
          <p:nvPr/>
        </p:nvPicPr>
        <p:blipFill>
          <a:blip r:embed="rId4"/>
          <a:stretch/>
        </p:blipFill>
        <p:spPr>
          <a:xfrm>
            <a:off x="4884840" y="5267160"/>
            <a:ext cx="701640" cy="219240"/>
          </a:xfrm>
          <a:prstGeom prst="rect">
            <a:avLst/>
          </a:prstGeom>
          <a:ln w="0">
            <a:noFill/>
          </a:ln>
        </p:spPr>
      </p:pic>
      <p:pic>
        <p:nvPicPr>
          <p:cNvPr id="68" name="AppleII-logoBluea" descr=""/>
          <p:cNvPicPr/>
          <p:nvPr/>
        </p:nvPicPr>
        <p:blipFill>
          <a:blip r:embed="rId5"/>
          <a:stretch/>
        </p:blipFill>
        <p:spPr>
          <a:xfrm>
            <a:off x="6119640" y="5267160"/>
            <a:ext cx="702000" cy="219240"/>
          </a:xfrm>
          <a:prstGeom prst="rect">
            <a:avLst/>
          </a:prstGeom>
          <a:ln w="0">
            <a:noFill/>
          </a:ln>
        </p:spPr>
      </p:pic>
      <p:pic>
        <p:nvPicPr>
          <p:cNvPr id="69" name="AppleII-logoBluea" descr=""/>
          <p:cNvPicPr/>
          <p:nvPr/>
        </p:nvPicPr>
        <p:blipFill>
          <a:blip r:embed="rId6"/>
          <a:stretch/>
        </p:blipFill>
        <p:spPr>
          <a:xfrm>
            <a:off x="7354800" y="5267160"/>
            <a:ext cx="701640" cy="2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"/>
              </a:rPr>
              <a:t>Machine 10 Demo Program</a:t>
            </a:r>
            <a:endParaRPr b="0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523880" y="1981080"/>
            <a:ext cx="6553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100 REM NadaNet Hi-res Dem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110 REM MJM - June 23, 200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120 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130 D$ = CHR$(4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140 PRINT CHR$(21) : REM 40-Col m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150 HGR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160 PRINT D$”BLOAD NADAHGR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170 CALL 973 : REM Serve “forever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"/>
              </a:rPr>
              <a:t>Examples</a:t>
            </a:r>
            <a:endParaRPr b="0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&amp;PEEK (10,2*4096,2*4096,2*4096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ves $2000 bytes from machine 10’s HGR1 buffer to our HGR1 buffer, where we can see i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&amp;POKE (10,4*4096,2*4096,2*4096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ves $2000 bytes from our HGR1 buffer to machine 10’s HGR2 buffer, replacing its content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"/>
              </a:rPr>
              <a:t>POKE: A Typical Protocol</a:t>
            </a:r>
            <a:endParaRPr b="0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895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KE Requ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KE Ac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Arial"/>
              </a:rPr>
              <a:t>Data packe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ta Ack/Na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733920" y="2209680"/>
            <a:ext cx="350496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3733920" y="2666880"/>
            <a:ext cx="350496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rot="5400000">
            <a:off x="5332680" y="3503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733920" y="3489480"/>
            <a:ext cx="3504960" cy="0"/>
          </a:xfrm>
          <a:prstGeom prst="line">
            <a:avLst/>
          </a:prstGeom>
          <a:ln w="255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733920" y="3946680"/>
            <a:ext cx="3504960" cy="0"/>
          </a:xfrm>
          <a:prstGeom prst="line">
            <a:avLst/>
          </a:prstGeom>
          <a:ln w="255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733920" y="3124080"/>
            <a:ext cx="3504960" cy="0"/>
          </a:xfrm>
          <a:prstGeom prst="line">
            <a:avLst/>
          </a:prstGeom>
          <a:ln w="255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3733920" y="4419720"/>
            <a:ext cx="350496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162920" y="1905120"/>
            <a:ext cx="1295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5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5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5181480"/>
            <a:ext cx="731520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Optimization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ata packets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and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ata Ack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are omitted if length is 1 or 2 byt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"/>
              </a:rPr>
              <a:t>Control Packet Format</a:t>
            </a:r>
            <a:endParaRPr b="0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1143000" y="1752480"/>
            <a:ext cx="6858000" cy="685800"/>
            <a:chOff x="1143000" y="1752480"/>
            <a:chExt cx="6858000" cy="685800"/>
          </a:xfrm>
        </p:grpSpPr>
        <p:sp>
          <p:nvSpPr>
            <p:cNvPr id="110" name=""/>
            <p:cNvSpPr/>
            <p:nvPr/>
          </p:nvSpPr>
          <p:spPr>
            <a:xfrm>
              <a:off x="1143000" y="1752480"/>
              <a:ext cx="762120" cy="685800"/>
            </a:xfrm>
            <a:prstGeom prst="rect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905120" y="1752480"/>
              <a:ext cx="762120" cy="685800"/>
            </a:xfrm>
            <a:prstGeom prst="rect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667240" y="1752480"/>
              <a:ext cx="761760" cy="685800"/>
            </a:xfrm>
            <a:prstGeom prst="rect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429000" y="1752480"/>
              <a:ext cx="762120" cy="685800"/>
            </a:xfrm>
            <a:prstGeom prst="rect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191120" y="1752480"/>
              <a:ext cx="762120" cy="685800"/>
            </a:xfrm>
            <a:prstGeom prst="rect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953240" y="1752480"/>
              <a:ext cx="761760" cy="685800"/>
            </a:xfrm>
            <a:prstGeom prst="rect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715000" y="1752480"/>
              <a:ext cx="762120" cy="685800"/>
            </a:xfrm>
            <a:prstGeom prst="rect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477120" y="1752480"/>
              <a:ext cx="762120" cy="685800"/>
            </a:xfrm>
            <a:prstGeom prst="rect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239240" y="1752480"/>
              <a:ext cx="761760" cy="685800"/>
            </a:xfrm>
            <a:prstGeom prst="rect">
              <a:avLst/>
            </a:prstGeom>
            <a:solidFill>
              <a:srgbClr val="3366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175040" y="1960560"/>
              <a:ext cx="685800" cy="2462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00"/>
                  </a:solidFill>
                  <a:latin typeface="Arial"/>
                </a:rPr>
                <a:t>Request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941480" y="1914480"/>
              <a:ext cx="685800" cy="39852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00"/>
                  </a:solidFill>
                  <a:latin typeface="Arial"/>
                </a:rPr>
                <a:t>Request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00"/>
                  </a:solidFill>
                  <a:latin typeface="Arial"/>
                </a:rPr>
                <a:t>Modifier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703600" y="1960560"/>
              <a:ext cx="685800" cy="2462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00"/>
                  </a:solidFill>
                  <a:latin typeface="Arial"/>
                </a:rPr>
                <a:t>Dest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465720" y="1960560"/>
              <a:ext cx="685800" cy="2462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00"/>
                  </a:solidFill>
                  <a:latin typeface="Arial"/>
                </a:rPr>
                <a:t>From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552920" y="1960560"/>
              <a:ext cx="801720" cy="2462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00"/>
                  </a:solidFill>
                  <a:latin typeface="Arial"/>
                </a:rPr>
                <a:t>Addres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72480" y="1960560"/>
              <a:ext cx="801360" cy="2462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00"/>
                  </a:solidFill>
                  <a:latin typeface="Arial"/>
                </a:rPr>
                <a:t>Length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267680" y="1960560"/>
              <a:ext cx="706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00"/>
                  </a:solidFill>
                  <a:latin typeface="Arial"/>
                </a:rPr>
                <a:t>Cksum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77724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Reques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dentifies all control packets of a given request typ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451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EEK, POKE, CALL, et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Modifie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pecifies the role of the packet in the protoco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451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quest, Request Ack, Data Ack, Na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es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dentifies the target mach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Fro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dentifies the sending mach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ddres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generally) specifies a target machine addr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engt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generally) specifies a data leng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ksu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s an EOR checksum applied to all packe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133720" y="6095880"/>
            <a:ext cx="44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Arial"/>
              </a:rPr>
              <a:t>Control packets are ~1ms long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"/>
              </a:rPr>
              <a:t>Nadanet Data Format</a:t>
            </a:r>
            <a:endParaRPr b="0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900840" y="1947960"/>
            <a:ext cx="468360" cy="58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369200" y="1947960"/>
            <a:ext cx="468360" cy="58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500120" y="1947960"/>
            <a:ext cx="1171800" cy="585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557600" y="1947960"/>
            <a:ext cx="0" cy="58572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557600" y="2533680"/>
            <a:ext cx="9367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5494320" y="1947600"/>
            <a:ext cx="0" cy="58572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494320" y="1947960"/>
            <a:ext cx="46836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962680" y="1947960"/>
            <a:ext cx="0" cy="58572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962680" y="2533680"/>
            <a:ext cx="4698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6432480" y="1947600"/>
            <a:ext cx="0" cy="58572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432480" y="1947960"/>
            <a:ext cx="46836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900840" y="1947960"/>
            <a:ext cx="46836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369200" y="1947960"/>
            <a:ext cx="46836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837560" y="1947960"/>
            <a:ext cx="0" cy="58572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837560" y="1947960"/>
            <a:ext cx="46836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837560" y="2533680"/>
            <a:ext cx="46836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914400" y="2533680"/>
            <a:ext cx="17575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914400" y="2533680"/>
            <a:ext cx="11736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52480" y="206064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00"/>
                </a:solidFill>
                <a:latin typeface="Arial"/>
              </a:rPr>
              <a:t>Locked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00"/>
                </a:solidFill>
                <a:latin typeface="Arial"/>
              </a:rPr>
              <a:t>or Idl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470560" y="2060640"/>
            <a:ext cx="533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00"/>
                </a:solidFill>
                <a:latin typeface="Arial"/>
              </a:rPr>
              <a:t>ON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00"/>
                </a:solidFill>
                <a:latin typeface="Arial"/>
              </a:rPr>
              <a:t>8 cy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87920" y="2060640"/>
            <a:ext cx="685800" cy="3985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00"/>
                </a:solidFill>
                <a:latin typeface="Arial"/>
              </a:rPr>
              <a:t>ZERO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00"/>
                </a:solidFill>
                <a:latin typeface="Arial"/>
              </a:rPr>
              <a:t>16 cy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321000" y="2060640"/>
            <a:ext cx="685800" cy="3985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00"/>
                </a:solidFill>
                <a:latin typeface="Arial"/>
              </a:rPr>
              <a:t>ON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00"/>
                </a:solidFill>
                <a:latin typeface="Arial"/>
              </a:rPr>
              <a:t>31 cy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2057400" y="1863720"/>
            <a:ext cx="101520" cy="152280"/>
            <a:chOff x="2057400" y="1863720"/>
            <a:chExt cx="101520" cy="152280"/>
          </a:xfrm>
        </p:grpSpPr>
        <p:sp>
          <p:nvSpPr>
            <p:cNvPr id="152" name=""/>
            <p:cNvSpPr/>
            <p:nvPr/>
          </p:nvSpPr>
          <p:spPr>
            <a:xfrm>
              <a:off x="2057400" y="1863720"/>
              <a:ext cx="50760" cy="152280"/>
            </a:xfrm>
            <a:custGeom>
              <a:avLst/>
              <a:gdLst/>
              <a:ahLst/>
              <a:rect l="l" t="t" r="r" b="b"/>
              <a:pathLst>
                <a:path w="96" h="288">
                  <a:moveTo>
                    <a:pt x="96" y="0"/>
                  </a:moveTo>
                  <a:cubicBezTo>
                    <a:pt x="48" y="32"/>
                    <a:pt x="0" y="64"/>
                    <a:pt x="0" y="96"/>
                  </a:cubicBezTo>
                  <a:cubicBezTo>
                    <a:pt x="0" y="128"/>
                    <a:pt x="96" y="160"/>
                    <a:pt x="96" y="192"/>
                  </a:cubicBezTo>
                  <a:cubicBezTo>
                    <a:pt x="96" y="224"/>
                    <a:pt x="16" y="272"/>
                    <a:pt x="0" y="288"/>
                  </a:cubicBezTo>
                </a:path>
              </a:pathLst>
            </a:custGeom>
            <a:noFill/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108160" y="1863720"/>
              <a:ext cx="50760" cy="152280"/>
            </a:xfrm>
            <a:custGeom>
              <a:avLst/>
              <a:gdLst/>
              <a:ahLst/>
              <a:rect l="l" t="t" r="r" b="b"/>
              <a:pathLst>
                <a:path w="96" h="288">
                  <a:moveTo>
                    <a:pt x="96" y="0"/>
                  </a:moveTo>
                  <a:cubicBezTo>
                    <a:pt x="48" y="32"/>
                    <a:pt x="0" y="64"/>
                    <a:pt x="0" y="96"/>
                  </a:cubicBezTo>
                  <a:cubicBezTo>
                    <a:pt x="0" y="128"/>
                    <a:pt x="96" y="160"/>
                    <a:pt x="96" y="192"/>
                  </a:cubicBezTo>
                  <a:cubicBezTo>
                    <a:pt x="96" y="224"/>
                    <a:pt x="16" y="272"/>
                    <a:pt x="0" y="288"/>
                  </a:cubicBezTo>
                </a:path>
              </a:pathLst>
            </a:custGeom>
            <a:noFill/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2057400" y="2457360"/>
            <a:ext cx="101520" cy="152640"/>
            <a:chOff x="2057400" y="2457360"/>
            <a:chExt cx="101520" cy="152640"/>
          </a:xfrm>
        </p:grpSpPr>
        <p:sp>
          <p:nvSpPr>
            <p:cNvPr id="155" name=""/>
            <p:cNvSpPr/>
            <p:nvPr/>
          </p:nvSpPr>
          <p:spPr>
            <a:xfrm>
              <a:off x="2057400" y="2457360"/>
              <a:ext cx="50760" cy="152640"/>
            </a:xfrm>
            <a:custGeom>
              <a:avLst/>
              <a:gdLst/>
              <a:ahLst/>
              <a:rect l="l" t="t" r="r" b="b"/>
              <a:pathLst>
                <a:path w="96" h="288">
                  <a:moveTo>
                    <a:pt x="96" y="0"/>
                  </a:moveTo>
                  <a:cubicBezTo>
                    <a:pt x="48" y="32"/>
                    <a:pt x="0" y="64"/>
                    <a:pt x="0" y="96"/>
                  </a:cubicBezTo>
                  <a:cubicBezTo>
                    <a:pt x="0" y="128"/>
                    <a:pt x="96" y="160"/>
                    <a:pt x="96" y="192"/>
                  </a:cubicBezTo>
                  <a:cubicBezTo>
                    <a:pt x="96" y="224"/>
                    <a:pt x="16" y="272"/>
                    <a:pt x="0" y="288"/>
                  </a:cubicBezTo>
                </a:path>
              </a:pathLst>
            </a:custGeom>
            <a:noFill/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108160" y="2457360"/>
              <a:ext cx="50760" cy="152640"/>
            </a:xfrm>
            <a:custGeom>
              <a:avLst/>
              <a:gdLst/>
              <a:ahLst/>
              <a:rect l="l" t="t" r="r" b="b"/>
              <a:pathLst>
                <a:path w="96" h="288">
                  <a:moveTo>
                    <a:pt x="96" y="0"/>
                  </a:moveTo>
                  <a:cubicBezTo>
                    <a:pt x="48" y="32"/>
                    <a:pt x="0" y="64"/>
                    <a:pt x="0" y="96"/>
                  </a:cubicBezTo>
                  <a:cubicBezTo>
                    <a:pt x="0" y="128"/>
                    <a:pt x="96" y="160"/>
                    <a:pt x="96" y="192"/>
                  </a:cubicBezTo>
                  <a:cubicBezTo>
                    <a:pt x="96" y="224"/>
                    <a:pt x="16" y="272"/>
                    <a:pt x="0" y="288"/>
                  </a:cubicBezTo>
                </a:path>
              </a:pathLst>
            </a:custGeom>
            <a:noFill/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5896080" y="2060640"/>
            <a:ext cx="633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00"/>
                </a:solidFill>
                <a:latin typeface="Arial"/>
              </a:rPr>
              <a:t>ZERO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00"/>
                </a:solidFill>
                <a:latin typeface="Arial"/>
              </a:rPr>
              <a:t>8 cy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400800" y="2060640"/>
            <a:ext cx="533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00"/>
                </a:solidFill>
                <a:latin typeface="Arial"/>
              </a:rPr>
              <a:t>ON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00"/>
                </a:solidFill>
                <a:latin typeface="Arial"/>
              </a:rPr>
              <a:t>8 cy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878520" y="2060640"/>
            <a:ext cx="533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00"/>
                </a:solidFill>
                <a:latin typeface="Arial"/>
              </a:rPr>
              <a:t>Bit 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00"/>
                </a:solidFill>
                <a:latin typeface="Arial"/>
              </a:rPr>
              <a:t>8 cy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346880" y="2060640"/>
            <a:ext cx="533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00"/>
                </a:solidFill>
                <a:latin typeface="Arial"/>
              </a:rPr>
              <a:t>Bit 6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00"/>
                </a:solidFill>
                <a:latin typeface="Arial"/>
              </a:rPr>
              <a:t>8 cy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848720" y="195264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416320" y="3736800"/>
            <a:ext cx="468000" cy="5860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84320" y="3736800"/>
            <a:ext cx="468360" cy="5860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7960" y="3736800"/>
            <a:ext cx="46836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416320" y="3736800"/>
            <a:ext cx="4680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84320" y="3736800"/>
            <a:ext cx="46836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352680" y="3736800"/>
            <a:ext cx="0" cy="5860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394000" y="3849840"/>
            <a:ext cx="533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00"/>
                </a:solidFill>
                <a:latin typeface="Arial"/>
              </a:rPr>
              <a:t>Bit 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00"/>
                </a:solidFill>
                <a:latin typeface="Arial"/>
              </a:rPr>
              <a:t>8 cy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1904760" y="4322880"/>
            <a:ext cx="53316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905120" y="4322880"/>
            <a:ext cx="7596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905120" y="3736800"/>
            <a:ext cx="7596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857680" y="3849840"/>
            <a:ext cx="533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00"/>
                </a:solidFill>
                <a:latin typeface="Arial"/>
              </a:rPr>
              <a:t>Bit 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00"/>
                </a:solidFill>
                <a:latin typeface="Arial"/>
              </a:rPr>
              <a:t>8 cy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300640" y="3736800"/>
            <a:ext cx="468360" cy="5860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769000" y="3736800"/>
            <a:ext cx="468360" cy="58608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4832280" y="3736800"/>
            <a:ext cx="0" cy="5860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832280" y="3736800"/>
            <a:ext cx="46836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00640" y="3736800"/>
            <a:ext cx="46836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769000" y="3736800"/>
            <a:ext cx="46836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237360" y="3736800"/>
            <a:ext cx="0" cy="5860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237360" y="3736800"/>
            <a:ext cx="46836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237360" y="4322880"/>
            <a:ext cx="46836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746520" y="3849840"/>
            <a:ext cx="838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00"/>
                </a:solidFill>
                <a:latin typeface="Arial"/>
              </a:rPr>
              <a:t>ZERO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00"/>
                </a:solidFill>
                <a:latin typeface="Arial"/>
              </a:rPr>
              <a:t>22-23 cy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800600" y="3849840"/>
            <a:ext cx="533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00"/>
                </a:solidFill>
                <a:latin typeface="Arial"/>
              </a:rPr>
              <a:t>ON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00"/>
                </a:solidFill>
                <a:latin typeface="Arial"/>
              </a:rPr>
              <a:t>8 cy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278320" y="3849840"/>
            <a:ext cx="533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00"/>
                </a:solidFill>
                <a:latin typeface="Arial"/>
              </a:rPr>
              <a:t>Bit 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00"/>
                </a:solidFill>
                <a:latin typeface="Arial"/>
              </a:rPr>
              <a:t>8 cy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746680" y="3849840"/>
            <a:ext cx="533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00"/>
                </a:solidFill>
                <a:latin typeface="Arial"/>
              </a:rPr>
              <a:t>Bit 6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00"/>
                </a:solidFill>
                <a:latin typeface="Arial"/>
              </a:rPr>
              <a:t>8 cy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248520" y="374184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658960" y="1947960"/>
            <a:ext cx="19051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316320" y="4322880"/>
            <a:ext cx="15238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965240" y="371304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416320" y="5208480"/>
            <a:ext cx="468000" cy="58572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84320" y="5208480"/>
            <a:ext cx="468360" cy="58572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947960" y="5208480"/>
            <a:ext cx="46836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416320" y="5208480"/>
            <a:ext cx="4680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884320" y="5208480"/>
            <a:ext cx="46836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352680" y="5208480"/>
            <a:ext cx="0" cy="58572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394000" y="5321160"/>
            <a:ext cx="533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00"/>
                </a:solidFill>
                <a:latin typeface="Arial"/>
              </a:rPr>
              <a:t>Bit 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00"/>
                </a:solidFill>
                <a:latin typeface="Arial"/>
              </a:rPr>
              <a:t>8 cy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1904760" y="5794200"/>
            <a:ext cx="53316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905120" y="5794200"/>
            <a:ext cx="7596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905120" y="5208480"/>
            <a:ext cx="7596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857680" y="5321160"/>
            <a:ext cx="533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00"/>
                </a:solidFill>
                <a:latin typeface="Arial"/>
              </a:rPr>
              <a:t>Bit 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00"/>
                </a:solidFill>
                <a:latin typeface="Arial"/>
              </a:rPr>
              <a:t>8 cy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46520" y="5321160"/>
            <a:ext cx="838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00"/>
                </a:solidFill>
                <a:latin typeface="Arial"/>
              </a:rPr>
              <a:t>ZERO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00"/>
                </a:solidFill>
                <a:latin typeface="Arial"/>
              </a:rPr>
              <a:t>(Idle)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965240" y="5184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352680" y="5794200"/>
            <a:ext cx="327672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932200" y="6080040"/>
            <a:ext cx="838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00"/>
                </a:solidFill>
                <a:latin typeface="Arial"/>
              </a:rPr>
              <a:t>End of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00"/>
                </a:solidFill>
                <a:latin typeface="Arial"/>
              </a:rPr>
              <a:t>checkbyt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3352680" y="5870160"/>
            <a:ext cx="0" cy="228600"/>
          </a:xfrm>
          <a:prstGeom prst="line">
            <a:avLst/>
          </a:prstGeom>
          <a:ln w="25560">
            <a:solidFill>
              <a:srgbClr val="ffffff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85800" y="478800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00"/>
                </a:solidFill>
                <a:latin typeface="Arial"/>
              </a:rPr>
              <a:t>Packet end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85800" y="3324240"/>
            <a:ext cx="220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00"/>
                </a:solidFill>
                <a:latin typeface="Arial"/>
              </a:rPr>
              <a:t>Interbyte separator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85800" y="156384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00"/>
                </a:solidFill>
                <a:latin typeface="Arial"/>
              </a:rPr>
              <a:t>Start of packet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475160" y="4592520"/>
            <a:ext cx="7254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00"/>
                </a:solidFill>
                <a:latin typeface="Arial"/>
              </a:rPr>
              <a:t>Servo edg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4840200" y="4398480"/>
            <a:ext cx="0" cy="228600"/>
          </a:xfrm>
          <a:prstGeom prst="line">
            <a:avLst/>
          </a:prstGeom>
          <a:ln w="25560">
            <a:solidFill>
              <a:srgbClr val="ffffff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130800" y="2803680"/>
            <a:ext cx="581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00"/>
                </a:solidFill>
                <a:latin typeface="Arial"/>
              </a:rPr>
              <a:t>Servo edg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6432480" y="2609640"/>
            <a:ext cx="0" cy="228600"/>
          </a:xfrm>
          <a:prstGeom prst="line">
            <a:avLst/>
          </a:prstGeom>
          <a:ln w="25560">
            <a:solidFill>
              <a:srgbClr val="ffffff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068800" y="2803680"/>
            <a:ext cx="838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00"/>
                </a:solidFill>
                <a:latin typeface="Arial"/>
              </a:rPr>
              <a:t>Coarse sync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5489640" y="2609640"/>
            <a:ext cx="0" cy="228600"/>
          </a:xfrm>
          <a:prstGeom prst="line">
            <a:avLst/>
          </a:prstGeom>
          <a:ln w="25560">
            <a:solidFill>
              <a:srgbClr val="ffffff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203720" y="2803680"/>
            <a:ext cx="701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00"/>
                </a:solidFill>
                <a:latin typeface="Arial"/>
              </a:rPr>
              <a:t>Start sync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551480" y="2609640"/>
            <a:ext cx="0" cy="228600"/>
          </a:xfrm>
          <a:prstGeom prst="line">
            <a:avLst/>
          </a:prstGeom>
          <a:ln w="25560">
            <a:solidFill>
              <a:srgbClr val="ffffff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17" name=""/>
          <p:cNvCxnSpPr/>
          <p:nvPr/>
        </p:nvCxnSpPr>
        <p:spPr>
          <a:xfrm>
            <a:off x="2690640" y="1755360"/>
            <a:ext cx="4191840" cy="1080"/>
          </a:xfrm>
          <a:prstGeom prst="straightConnector1">
            <a:avLst/>
          </a:prstGeom>
          <a:ln w="25560">
            <a:solidFill>
              <a:srgbClr val="00ff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18" name=""/>
          <p:cNvCxnSpPr/>
          <p:nvPr/>
        </p:nvCxnSpPr>
        <p:spPr>
          <a:xfrm>
            <a:off x="3352680" y="3541320"/>
            <a:ext cx="1982160" cy="1080"/>
          </a:xfrm>
          <a:prstGeom prst="straightConnector1">
            <a:avLst/>
          </a:prstGeom>
          <a:ln w="25560">
            <a:solidFill>
              <a:srgbClr val="00ff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19" name=""/>
          <p:cNvSpPr/>
          <p:nvPr/>
        </p:nvSpPr>
        <p:spPr>
          <a:xfrm>
            <a:off x="3946680" y="332568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ff00"/>
                </a:solidFill>
                <a:latin typeface="Arial"/>
              </a:rPr>
              <a:t>30-31 cy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343400" y="15397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ff00"/>
                </a:solidFill>
                <a:latin typeface="Arial"/>
              </a:rPr>
              <a:t>71 cy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"/>
              </a:rPr>
              <a:t>NadaNet Arbitration</a:t>
            </a:r>
            <a:endParaRPr b="0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ways listen before send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it for net to be idle for 1 millisecond + id * 22c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ower id machines have higher arbitration prior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ize net by forcing ONE st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equenc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etwork is “locked” until it is idle for longer than 1m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ll requests meet this requirement and so are atomi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"/>
              </a:rPr>
              <a:t>AppleCrate</a:t>
            </a:r>
            <a:endParaRPr b="0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114440" y="2133720"/>
            <a:ext cx="472428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 8-machine Apple //e clus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OMs modified for NadaNet boot (from serve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wered by PC power supp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5" name="Image6" descr=""/>
          <p:cNvPicPr/>
          <p:nvPr/>
        </p:nvPicPr>
        <p:blipFill>
          <a:blip r:embed="rId1"/>
          <a:stretch/>
        </p:blipFill>
        <p:spPr>
          <a:xfrm>
            <a:off x="533520" y="2057400"/>
            <a:ext cx="335268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"/>
              </a:rPr>
              <a:t>Questions and discussion...</a:t>
            </a:r>
            <a:endParaRPr b="0" lang="en-US" sz="44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"/>
              </a:rPr>
              <a:t>Why NadaNet?</a:t>
            </a:r>
            <a:endParaRPr b="0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 the early 1990s, I became interested in “clustered” machines:  parallel computers connected by a LA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 interest naturally turned to Apple II computers, and the possibility of an all-software Apple II network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liminary work indicated that data rates of several kilobytes/second were possible using a digital phase-locked loop, adequate for an Apple II clust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t seemed like a great opportunity to “reinvent” Ethernet and learn from the bottom up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"/>
              </a:rPr>
              <a:t>What is NadaNet?</a:t>
            </a:r>
            <a:endParaRPr b="0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17521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peer-to-peer baseband serial bus networ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mplemented entirely in Apple II softwa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oth Applesoft and M/L AP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tention-based, with collision avoidance (CSMA/CA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necting dozens of Apple II’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&gt;10K bytes/second bandwid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 to 256-byte packe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 to 64K-byte atomic data transac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828800" y="5614920"/>
            <a:ext cx="5486400" cy="7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A network to suppo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parallel programming </a:t>
            </a: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on Apple II’s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"/>
              </a:rPr>
              <a:t>What NadaNet is Not</a:t>
            </a:r>
            <a:endParaRPr b="0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way of connecting to the Intern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way of connecting to non-Apple II’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mpatible with TCP/IP networ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"/>
              </a:rPr>
              <a:t>NadaNet Requirements</a:t>
            </a:r>
            <a:endParaRPr b="0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wo or more Apple II’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ach machine requires a game port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dap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6-pin internal port (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9-pin joystick por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Apple II and II+ allowed a short network without an adapter, but later machines present heavier load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dapters are simple and can be built easil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dapters extend the physical length of the networ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50 feet if shielded cable us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500 plus feet if Cat 5 UTP us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"/>
              </a:rPr>
              <a:t>NadaNet Adapter</a:t>
            </a:r>
            <a:endParaRPr b="0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pic>
        <p:nvPicPr>
          <p:cNvPr id="80" name="Image9" descr=""/>
          <p:cNvPicPr/>
          <p:nvPr/>
        </p:nvPicPr>
        <p:blipFill>
          <a:blip r:embed="rId1"/>
          <a:stretch/>
        </p:blipFill>
        <p:spPr>
          <a:xfrm>
            <a:off x="5257800" y="1447920"/>
            <a:ext cx="2590920" cy="2590560"/>
          </a:xfrm>
          <a:prstGeom prst="rect">
            <a:avLst/>
          </a:prstGeom>
          <a:ln w="0">
            <a:noFill/>
          </a:ln>
        </p:spPr>
      </p:pic>
      <p:pic>
        <p:nvPicPr>
          <p:cNvPr id="81" name="Image27" descr=""/>
          <p:cNvPicPr/>
          <p:nvPr/>
        </p:nvPicPr>
        <p:blipFill>
          <a:blip r:embed="rId2"/>
          <a:stretch/>
        </p:blipFill>
        <p:spPr>
          <a:xfrm>
            <a:off x="5257800" y="4267080"/>
            <a:ext cx="2133720" cy="2133720"/>
          </a:xfrm>
          <a:prstGeom prst="rect">
            <a:avLst/>
          </a:prstGeom>
          <a:ln w="0">
            <a:noFill/>
          </a:ln>
        </p:spPr>
      </p:pic>
      <p:pic>
        <p:nvPicPr>
          <p:cNvPr id="82" name="PA040142ac" descr=""/>
          <p:cNvPicPr/>
          <p:nvPr/>
        </p:nvPicPr>
        <p:blipFill>
          <a:blip r:embed="rId3"/>
          <a:stretch/>
        </p:blipFill>
        <p:spPr>
          <a:xfrm>
            <a:off x="2209680" y="4343400"/>
            <a:ext cx="2514600" cy="1886040"/>
          </a:xfrm>
          <a:prstGeom prst="rect">
            <a:avLst/>
          </a:prstGeom>
          <a:ln w="0">
            <a:noFill/>
          </a:ln>
        </p:spPr>
      </p:pic>
      <p:pic>
        <p:nvPicPr>
          <p:cNvPr id="83" name="Image3" descr=""/>
          <p:cNvPicPr/>
          <p:nvPr/>
        </p:nvPicPr>
        <p:blipFill>
          <a:blip r:embed="rId4"/>
          <a:stretch/>
        </p:blipFill>
        <p:spPr>
          <a:xfrm>
            <a:off x="990720" y="1447920"/>
            <a:ext cx="3886200" cy="25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"/>
              </a:rPr>
              <a:t>Fixing late-model //e’s</a:t>
            </a:r>
            <a:endParaRPr b="0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3276720" y="1665360"/>
            <a:ext cx="2286000" cy="2144520"/>
            <a:chOff x="3276720" y="1665360"/>
            <a:chExt cx="2286000" cy="2144520"/>
          </a:xfrm>
        </p:grpSpPr>
        <p:pic>
          <p:nvPicPr>
            <p:cNvPr id="86" name="A2e-Platinum-PB-caps-large" descr=""/>
            <p:cNvPicPr/>
            <p:nvPr/>
          </p:nvPicPr>
          <p:blipFill>
            <a:blip r:embed="rId1"/>
            <a:stretch/>
          </p:blipFill>
          <p:spPr>
            <a:xfrm>
              <a:off x="3276720" y="1665360"/>
              <a:ext cx="2286000" cy="214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"/>
            <p:cNvSpPr/>
            <p:nvPr/>
          </p:nvSpPr>
          <p:spPr>
            <a:xfrm>
              <a:off x="3997440" y="2908440"/>
              <a:ext cx="490320" cy="588960"/>
            </a:xfrm>
            <a:prstGeom prst="ellipse">
              <a:avLst/>
            </a:prstGeom>
            <a:noFill/>
            <a:ln w="223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8" name=""/>
          <p:cNvSpPr/>
          <p:nvPr/>
        </p:nvSpPr>
        <p:spPr>
          <a:xfrm>
            <a:off x="685800" y="3962520"/>
            <a:ext cx="77724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ust snip one (or both) leads on each capacitor to restore full bandwidth capability to pushbutton input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n snip one lead and lift cap slightly for minimal mo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n always be re-soldered to handicap your Apple!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0.1 uF capacitors to ground were added in “Platinum” board revision as a brute-force EMI fix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"/>
              </a:rPr>
              <a:t>How is it used?</a:t>
            </a:r>
            <a:endParaRPr b="0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adaNet is loaded and initializ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LOAD from disk and initialize, usually by HELLO or STARTU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or boot from network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chines are only “on” the net when they are “serving”--listening for packets and acting on the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y machine can process requests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ile it is serving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y machine can make requests at any time, but they will only be acted upon if the target machine is serving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fault request timeout is ~3 second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a Message Server is serving, messages can be sent and received at any tim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"/>
              </a:rPr>
              <a:t>NadaNet Request APIs</a:t>
            </a:r>
            <a:endParaRPr b="0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523880" y="175248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&amp;PEEK (dest,addr,len16,locadd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&amp;POKE (dest,addr,len16,locadd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&amp;CALL (dest,addr [,ax]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&amp;PUTMSG (msid,mclass,mlen8,madd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&amp;GETMSG# (msid,mclass,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mlen8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madd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&amp;PEEKINC (dest,addr,incval16,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oldval16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&amp;BPOKE (addr,val16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&amp;SERVE# (ite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til 1 request, iter*20ms timeout, or key is pressed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LL 97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rves indefinitel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7T07:29:42Z</dcterms:created>
  <dc:creator>Michael J. Mahon</dc:creator>
  <dc:description/>
  <dc:language>en-US</dc:language>
  <cp:lastModifiedBy>Michael J. Mahon</cp:lastModifiedBy>
  <cp:lastPrinted>2007-06-24T23:20:53Z</cp:lastPrinted>
  <dcterms:modified xsi:type="dcterms:W3CDTF">2007-06-29T19:28:11Z</dcterms:modified>
  <cp:revision>17</cp:revision>
  <dc:subject/>
  <dc:title>NadaNet Networking for Apple II’s</dc:title>
</cp:coreProperties>
</file>