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933600" cy="939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dt" idx="7"/>
          </p:nvPr>
        </p:nvSpPr>
        <p:spPr>
          <a:xfrm>
            <a:off x="39621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96216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4C13F-0C79-45C2-A87C-D03610F33D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Getting things setup a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Lack of monitor and hard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Could I have a show of hands, of the people using Marinett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How many are using 2.01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How many are  using 3.0b1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Which link lay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SL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PPP / scripted P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MacIP</a:t>
            </a:r>
            <a:br>
              <a:rPr sz="1200"/>
            </a:b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LanceGS</a:t>
            </a:r>
            <a:br>
              <a:rPr sz="1200"/>
            </a:b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U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Fixed PROCESSTHIS? Sequence check [226053] (Ewen Wanno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Fixed TCPRead memory overrun [426999] (Ewen Wanno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Fixed stack imbalance in incoming SYN error handler [1084053] (Kelvin Sherloc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 Fixed stack imbalance in TCPIPStatusUDP [1183332] (Kelvin Sherloc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comp.sources.apple2 moderator Jonathan Chand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8765-E6E9-4651-BF3B-80A91003C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2666880"/>
            <a:ext cx="640080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371600" y="4378320"/>
            <a:ext cx="640080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E446-9A26-41A2-B2B6-406C6CDF0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2666880"/>
            <a:ext cx="312336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51560" y="2666880"/>
            <a:ext cx="312336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371600" y="4378320"/>
            <a:ext cx="312336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51560" y="4378320"/>
            <a:ext cx="312336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EE95-07C5-46A2-BF5E-C21118108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2666880"/>
            <a:ext cx="206064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35560" y="2666880"/>
            <a:ext cx="206064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699880" y="2666880"/>
            <a:ext cx="206064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371600" y="4378320"/>
            <a:ext cx="206064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35560" y="4378320"/>
            <a:ext cx="206064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699880" y="4378320"/>
            <a:ext cx="206064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86FD-D37F-462A-A771-78FD90BE2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78C9A-CC16-4DC0-B0C4-3FB6AAEFE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2666880"/>
            <a:ext cx="6400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CCBAF-D87A-4FDD-A7D5-BA6C281A3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2666880"/>
            <a:ext cx="64008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0D0AD-C541-4612-BF38-3DC470CB1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2666880"/>
            <a:ext cx="312336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2666880"/>
            <a:ext cx="312336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3FDAC-CD31-4CFB-965E-B07722CD8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9CFA0-4BE8-4B2D-8410-8CA6FEDB7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FEC7C-65DF-4B53-8E6E-175725DC3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371600" y="2666880"/>
            <a:ext cx="312336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51560" y="2666880"/>
            <a:ext cx="312336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371600" y="4378320"/>
            <a:ext cx="312336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D9D62-83B0-47A2-9D23-ED4DCC56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371600" y="2666880"/>
            <a:ext cx="6400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309E-0F8F-4795-9271-68142D265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2666880"/>
            <a:ext cx="312336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2666880"/>
            <a:ext cx="312336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51560" y="4378320"/>
            <a:ext cx="312336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40311-26A4-43DB-818E-A1084077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2666880"/>
            <a:ext cx="312336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2666880"/>
            <a:ext cx="312336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371600" y="4378320"/>
            <a:ext cx="640080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D4FF5-7030-4960-8BD3-7EEA5AE7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2666880"/>
            <a:ext cx="640080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371600" y="4378320"/>
            <a:ext cx="640080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F1C5E-933E-491F-B7A7-70F68C5D2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2666880"/>
            <a:ext cx="312336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1560" y="2666880"/>
            <a:ext cx="312336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371600" y="4378320"/>
            <a:ext cx="312336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51560" y="4378320"/>
            <a:ext cx="312336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1B2C5-EACC-46B4-9B7B-7DA3EF0CF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2666880"/>
            <a:ext cx="206064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535560" y="2666880"/>
            <a:ext cx="206064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699880" y="2666880"/>
            <a:ext cx="206064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371600" y="4378320"/>
            <a:ext cx="206064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535560" y="4378320"/>
            <a:ext cx="206064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699880" y="4378320"/>
            <a:ext cx="206064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F0AFF-A3ED-41DA-B433-764B04A93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2666880"/>
            <a:ext cx="64008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D118-D37D-4AD3-AE6A-1C2BE5961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2666880"/>
            <a:ext cx="312336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2666880"/>
            <a:ext cx="312336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E2C9-A0DA-4380-9BAB-9F3A4DAE3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36A1-C2CF-464D-BD8A-39B35FE9C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CE18-B4E9-4839-A5A4-82382D5B6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2666880"/>
            <a:ext cx="312336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2666880"/>
            <a:ext cx="312336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378320"/>
            <a:ext cx="312336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CD1A-3E43-4F1F-A9CC-6DFBD39B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2666880"/>
            <a:ext cx="312336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2666880"/>
            <a:ext cx="312336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51560" y="4378320"/>
            <a:ext cx="312336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C86C-0780-424F-B71C-D8D33F56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2666880"/>
            <a:ext cx="312336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2666880"/>
            <a:ext cx="312336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378320"/>
            <a:ext cx="640080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C45A-450E-41CB-B8D8-874FFDD4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95080" y="5166000"/>
            <a:ext cx="2165040" cy="1350720"/>
            <a:chOff x="6895080" y="5166000"/>
            <a:chExt cx="2165040" cy="1350720"/>
          </a:xfrm>
        </p:grpSpPr>
        <p:sp>
          <p:nvSpPr>
            <p:cNvPr id="1" name=""/>
            <p:cNvSpPr/>
            <p:nvPr/>
          </p:nvSpPr>
          <p:spPr>
            <a:xfrm rot="20940000">
              <a:off x="6934320" y="5919840"/>
              <a:ext cx="457200" cy="45720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691400" y="5353200"/>
              <a:ext cx="419040" cy="41904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8282160" y="5257800"/>
              <a:ext cx="60948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7062840" y="6019920"/>
              <a:ext cx="457200" cy="45720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767720" y="5429160"/>
              <a:ext cx="419040" cy="41904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8358120" y="5409720"/>
              <a:ext cx="609840" cy="60984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2209680" y="637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42336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DCBEF-755A-455D-BFF3-7C5E5B1FCE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380880" y="1219320"/>
            <a:ext cx="8305920" cy="380880"/>
            <a:chOff x="380880" y="1219320"/>
            <a:chExt cx="8305920" cy="380880"/>
          </a:xfrm>
        </p:grpSpPr>
        <p:sp>
          <p:nvSpPr>
            <p:cNvPr id="12" name=""/>
            <p:cNvSpPr/>
            <p:nvPr/>
          </p:nvSpPr>
          <p:spPr>
            <a:xfrm>
              <a:off x="609480" y="1447920"/>
              <a:ext cx="8077320" cy="1522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80880" y="1219320"/>
              <a:ext cx="8077320" cy="15228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890640" y="6310440"/>
            <a:ext cx="1228680" cy="38088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 rot="1320000">
            <a:off x="396720" y="549000"/>
            <a:ext cx="882720" cy="882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20940000">
            <a:off x="1828800" y="304920"/>
            <a:ext cx="457200" cy="45720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10000" y="171360"/>
            <a:ext cx="419040" cy="41904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752480" y="228600"/>
            <a:ext cx="457200" cy="45720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33680" y="19080"/>
            <a:ext cx="419040" cy="41904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895080" y="5089680"/>
            <a:ext cx="2165040" cy="1350720"/>
            <a:chOff x="6895080" y="5089680"/>
            <a:chExt cx="2165040" cy="1350720"/>
          </a:xfrm>
        </p:grpSpPr>
        <p:sp>
          <p:nvSpPr>
            <p:cNvPr id="58" name=""/>
            <p:cNvSpPr/>
            <p:nvPr/>
          </p:nvSpPr>
          <p:spPr>
            <a:xfrm rot="20940000">
              <a:off x="6934320" y="5843520"/>
              <a:ext cx="457200" cy="45720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691400" y="5276880"/>
              <a:ext cx="419040" cy="41904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rot="1320000">
              <a:off x="8282160" y="5181480"/>
              <a:ext cx="609480" cy="60984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rot="20940000">
              <a:off x="7062840" y="5943600"/>
              <a:ext cx="457200" cy="45720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767720" y="5353200"/>
              <a:ext cx="419040" cy="41904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1320000">
              <a:off x="8358120" y="5333760"/>
              <a:ext cx="60984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 rot="1320000">
            <a:off x="168120" y="244080"/>
            <a:ext cx="882720" cy="882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75960" y="6323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761FD-1056-40D5-9032-6C39562476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457200" y="2057400"/>
            <a:ext cx="8305920" cy="380880"/>
            <a:chOff x="457200" y="2057400"/>
            <a:chExt cx="8305920" cy="380880"/>
          </a:xfrm>
        </p:grpSpPr>
        <p:sp>
          <p:nvSpPr>
            <p:cNvPr id="70" name=""/>
            <p:cNvSpPr/>
            <p:nvPr/>
          </p:nvSpPr>
          <p:spPr>
            <a:xfrm>
              <a:off x="685800" y="2286000"/>
              <a:ext cx="8077320" cy="15228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57200" y="2057400"/>
              <a:ext cx="8077320" cy="15228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3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Rumblings from the 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Land Down Under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191120" y="3123720"/>
            <a:ext cx="449568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or, what has</a:t>
            </a:r>
            <a:br>
              <a:rPr sz="2800"/>
            </a:b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Andrew Roughan</a:t>
            </a:r>
            <a:br>
              <a:rPr sz="2800"/>
            </a:b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been up to anyway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30286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Rumblings from the 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Land Down Under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495680" y="2743200"/>
            <a:ext cx="4191120" cy="259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ject ‘JB’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SP Since Kfest 2003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nouncem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y Tuned..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3962520" y="2847960"/>
            <a:ext cx="399960" cy="39996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75461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>
            <a:hlinkClick r:id="rId2" action="ppaction://hlinksldjump"/>
          </p:cNvPr>
          <p:cNvSpPr/>
          <p:nvPr/>
        </p:nvSpPr>
        <p:spPr>
          <a:xfrm>
            <a:off x="3962520" y="3429000"/>
            <a:ext cx="399960" cy="39996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75461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>
            <a:hlinkClick r:id="rId3" action="ppaction://hlinksldjump"/>
          </p:cNvPr>
          <p:cNvSpPr/>
          <p:nvPr/>
        </p:nvSpPr>
        <p:spPr>
          <a:xfrm>
            <a:off x="3962520" y="4010040"/>
            <a:ext cx="399960" cy="39996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75461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>
            <a:hlinkClick r:id="rId4" action="ppaction://hlinksldjump"/>
          </p:cNvPr>
          <p:cNvSpPr/>
          <p:nvPr/>
        </p:nvSpPr>
        <p:spPr>
          <a:xfrm>
            <a:off x="3962520" y="4648320"/>
            <a:ext cx="399960" cy="39996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754617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1040" y="5562720"/>
            <a:ext cx="33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imes New Roman"/>
              </a:rPr>
              <a:t>Neo: Because I choose 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838080" y="2819520"/>
            <a:ext cx="297180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Project ‘JB’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47960" y="2362320"/>
            <a:ext cx="380988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New hou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New Job 17/10/0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Moved 17/12/0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Preparing for..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Charlie born 24/3/06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New c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Unpacking boxes..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43800" y="33526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7301"/>
                </a:moveTo>
                <a:lnTo>
                  <a:pt x="10095" y="7301"/>
                </a:lnTo>
                <a:lnTo>
                  <a:pt x="10478" y="7667"/>
                </a:lnTo>
                <a:lnTo>
                  <a:pt x="19686" y="7667"/>
                </a:lnTo>
                <a:lnTo>
                  <a:pt x="20243" y="8224"/>
                </a:lnTo>
                <a:lnTo>
                  <a:pt x="20243" y="8772"/>
                </a:lnTo>
                <a:lnTo>
                  <a:pt x="22088" y="8772"/>
                </a:lnTo>
                <a:lnTo>
                  <a:pt x="22454" y="8224"/>
                </a:lnTo>
                <a:lnTo>
                  <a:pt x="23194" y="8224"/>
                </a:lnTo>
                <a:lnTo>
                  <a:pt x="23194" y="13376"/>
                </a:lnTo>
                <a:lnTo>
                  <a:pt x="22454" y="13376"/>
                </a:lnTo>
                <a:lnTo>
                  <a:pt x="22088" y="12828"/>
                </a:lnTo>
                <a:lnTo>
                  <a:pt x="20243" y="12828"/>
                </a:lnTo>
                <a:lnTo>
                  <a:pt x="20243" y="14107"/>
                </a:lnTo>
                <a:lnTo>
                  <a:pt x="10660" y="14107"/>
                </a:lnTo>
                <a:lnTo>
                  <a:pt x="10660" y="9877"/>
                </a:lnTo>
                <a:lnTo>
                  <a:pt x="10478" y="9877"/>
                </a:lnTo>
                <a:lnTo>
                  <a:pt x="10095" y="10243"/>
                </a:lnTo>
                <a:lnTo>
                  <a:pt x="9181" y="10243"/>
                </a:lnTo>
                <a:close/>
              </a:path>
            </a:pathLst>
          </a:custGeom>
          <a:solidFill>
            <a:srgbClr val="ff9933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85800" y="2583000"/>
            <a:ext cx="3809880" cy="27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cc00"/>
                </a:solidFill>
                <a:latin typeface="Arial"/>
              </a:rPr>
              <a:t>New house...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39520" y="1905120"/>
            <a:ext cx="31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imes New Roman"/>
              </a:rPr>
              <a:t>= bigger workspac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263840" y="6095880"/>
            <a:ext cx="271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Times New Roman"/>
              </a:rPr>
              <a:t>How many computers can you see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85800" y="2743200"/>
            <a:ext cx="3809880" cy="28576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800600" y="1828800"/>
            <a:ext cx="2857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Marinetti Open Source Project</a:t>
            </a:r>
            <a:endParaRPr b="1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9051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fest 2003 = 3.0b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004/5 = MS-CHAP (See Juiced.GS vol 10 #1)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ripted PPP Link Layer v1.3d4</a:t>
            </a:r>
            <a:br>
              <a:rPr sz="2000"/>
            </a:b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Crypto Toolkit (DES)</a:t>
            </a:r>
            <a:br>
              <a:rPr sz="2000"/>
            </a:b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Hashtool (MD4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Kelvin Sherlock develops TCPSnoop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Glenn Jones &amp; Ewen Wannop develop Uthernet Link Lay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nnouncement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rinetti 3.0b3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quired for optimal  operation of SAFE 2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 will be available for download from sourceforge</a:t>
            </a:r>
            <a:br>
              <a:rPr sz="2000"/>
            </a:b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http://sourceforge.net/projects/marinetti</a:t>
            </a:r>
            <a:br>
              <a:rPr sz="2000"/>
            </a:b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“Files” link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quires previous installation of Marinetti 3.0b1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.sources.apple2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terial will be made available again by moderator Jonathan Chandros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Stay tuned...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pdate to Crypto Tool to incorporate IDEA encryption algorith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pplecations’ articles </a:t>
            </a:r>
            <a:r>
              <a:rPr b="1" lang="en-AU" sz="2000" spc="-1" strike="noStrike">
                <a:solidFill>
                  <a:srgbClr val="ffffff"/>
                </a:solidFill>
                <a:latin typeface="Arial"/>
              </a:rPr>
              <a:t>http://home.datacodsl.com/kalandi/apple/index.ht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Marinetti 3.0 by the end of the yea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cc00"/>
                </a:solidFill>
                <a:latin typeface="Arial"/>
              </a:rPr>
              <a:t>Have a great Kfest!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038120" y="5257440"/>
            <a:ext cx="3048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14400" y="2590920"/>
            <a:ext cx="2857680" cy="3809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114800" y="2666880"/>
            <a:ext cx="365760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2T08:57:29Z</dcterms:created>
  <dc:creator>User</dc:creator>
  <dc:description/>
  <dc:language>en-US</dc:language>
  <cp:lastModifiedBy>User</cp:lastModifiedBy>
  <cp:lastPrinted>1995-12-08T18:33:06Z</cp:lastPrinted>
  <dcterms:modified xsi:type="dcterms:W3CDTF">2006-07-23T02:11:39Z</dcterms:modified>
  <cp:revision>6</cp:revision>
  <dc:subject/>
  <dc:title>Rumblings from the  Land Down Under</dc:title>
</cp:coreProperties>
</file>