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DCA-D233-4AB2-ABD2-8193B958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AF8-B820-48DF-A154-BF62206F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037-3AF9-4FF0-BC99-6F834CCC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F56-9AF3-4AAE-BBE0-63B296BA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DCF-4419-4F97-9CE5-49E8AA4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397-48E8-4F15-9BFA-58ECBA41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446-9922-432B-B5BF-7F75A477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54B-1862-4AC7-9D17-D5C35595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4C0-737B-4FE5-860C-343AF6A7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5B5-BE9A-4080-957F-32F36F6E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73F-AEE8-46F0-A837-72DFA9F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3A7-EE13-4912-A27A-575E9577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6618-6083-42CA-B771-8C1EDCEB54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uiced.gs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46120"/>
            <a:ext cx="502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obo Agency Bold"/>
              </a:rPr>
              <a:t>Juiced.G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50532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Keeping it alive in 2002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how Syndicomm revolutionized Apple II</a:t>
            </a:r>
            <a:r>
              <a:rPr b="0" lang="en-US" sz="1800" spc="-1" strike="noStrike">
                <a:solidFill>
                  <a:srgbClr val="ffffff"/>
                </a:solidFill>
                <a:latin typeface="Marker Felt"/>
              </a:rPr>
              <a:t>GS</a:t>
            </a: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 newsletter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Ryan M. Suenaga, M.S.W., L.S.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KansasFest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Hobo Agency Bold"/>
              </a:rPr>
              <a:t>From Max to Syndicomm, with lov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At KFest 2001, it was announced that founder Max Jones would transfer publication of Juiced.GS to Syndicom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Ryan Suenaga would take over editing duties from Max J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arker Felt"/>
              </a:rPr>
              <a:t>Syndicomm would handle the day to day business operations of Juiced.G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Hobo Agency Bold"/>
              </a:rPr>
              <a:t>From one pair of hands to many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Under Ma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Writers submitted articles to Ma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Max did the editing, page layout, graphics, printing, addressing, stamping, and mai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arker Felt"/>
              </a:rPr>
              <a:t>Very labor intensive for one per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Under Syndicom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Writers submit articles to Ry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Ryan and Ken do the ed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Ryan and Max do the page layout and graph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rker Felt"/>
              </a:rPr>
              <a:t>Sheppy deals with the printing service that prints, addresses, stamps, and mai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Help from across America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16600" cy="426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886200"/>
            <a:ext cx="4287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9852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724280" y="37339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352680" y="3886200"/>
            <a:ext cx="416160" cy="43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505320" y="4343400"/>
            <a:ext cx="361800" cy="425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5562720" y="4267080"/>
            <a:ext cx="39528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4495680" y="4038480"/>
            <a:ext cx="38124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Using the Interne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il list for all staff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www.juiced.gs/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World Wide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submission of completed document to the pr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Mixing the old with the new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ge layout continues to be done with GraphicWriter I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W III documents are converted to Post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 documents are moved to the Mac, imported to Acrob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847960"/>
            <a:ext cx="3809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Keep Mixing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obe Acrobat Distiller converts PostScript to Acrob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ng graphics and final touch up is done in Adobe Acrob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Finally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PDF submitted to Shepp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inters print, collate, and ship to domestic subscrib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eppy ships to international subscrib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ycle starts over agai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Hobo Agency Bold"/>
              </a:rPr>
              <a:t>Juiced Announcement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d news: subscription prices will in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news: Juiced.GS will continue in 2003 (well, probably more than th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good news: KFest 2002 attendees renew at 2002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new staff memb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hard Bennett-Forrest of Australia will be writing an article related to his Juiced.GS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g Cuff of Canada will be coming on board the Juiced.GS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6:13:51Z</dcterms:created>
  <dc:creator>Ryan Suenaga</dc:creator>
  <dc:description/>
  <dc:language>en-US</dc:language>
  <cp:lastModifiedBy>Ryan Suenaga</cp:lastModifiedBy>
  <dcterms:modified xsi:type="dcterms:W3CDTF">2002-07-25T18:08:38Z</dcterms:modified>
  <cp:revision>42</cp:revision>
  <dc:subject/>
  <dc:title>PowerPoint Presentation</dc:title>
</cp:coreProperties>
</file>