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D83-AAE9-43C4-88CF-ACE68EB6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741-0119-44D1-9AA5-2242313D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F75-6410-4F8A-A1AF-EF09C275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CC0-6D5A-49CC-91B9-72C0B4E6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E68-5E0F-4C50-85D1-C5B3AD9D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A8F-AE05-4103-A200-6D94A88B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F97-A015-4B66-B219-15E1EE9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416-BCA9-4D92-80E3-582DB09B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EBF-B8AD-42D4-81AB-ED33592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F26-FC46-426A-A2EC-6DAFC971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FC2-96BC-4E67-B162-CB5A0C26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E9B-554C-4CFD-AFEE-C9CA9EAA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6DBD-9EA5-405C-90CD-1A47D837E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imes New Roman"/>
              </a:rPr>
              <a:t>KansasFest 2003: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we or won’t w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yan M. Suenaga, L.S.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nsasFest 2002, July 28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ill we have a KFest 2003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3623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Times New Roman"/>
              </a:rPr>
              <a:t>It’s up to you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Big successes with dwindling numbers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have fun in 200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we have new KFesters in 200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re folks who haven’t joined us for a year or more back in 200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you learn something, teach something, laugh, cry, hug an old friend, hug a new friend, or become a parent at KFest 200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f you were or you did…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ansasFest 2002 was a success for you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f we were such a success, why are we worried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numbers are dow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1 in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8 in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 in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? In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y is our attendance down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ate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ad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bination of thes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ther reason we don’t know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ime for the event has passed :-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 bit on pricing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7 $300 (Wednesday-Sun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8 $265 (Wednesday-Sun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9 $225 (Wednesday-Sunday) + $25 optional extr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 $225 (Wednesday-Sunday) + $25 optional extr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1 $225 (Wednesday-Sunday) + $25 optional extr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2 $265 (Tuesday-Sund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real cost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m and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angi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off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do we do from here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we have a KansasFest 200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a committ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a spon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have 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s do not make a KansasF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need bo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also need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ome suggestio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ommittee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ear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state the repeater dis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ur local people when we need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ertise in pub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amp kfest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 out postcards year-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till need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1:30:41Z</dcterms:created>
  <dc:creator>Ryan Suenaga</dc:creator>
  <dc:description/>
  <dc:language>en-US</dc:language>
  <cp:lastModifiedBy>Ryan Suenaga</cp:lastModifiedBy>
  <dcterms:modified xsi:type="dcterms:W3CDTF">2002-07-27T14:34:12Z</dcterms:modified>
  <cp:revision>23</cp:revision>
  <dc:subject/>
  <dc:title>KansasFest 2003:</dc:title>
</cp:coreProperties>
</file>